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1C958F-A467-4BED-A474-AB6D9B38A6C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0583C3-7D45-45E2-BC54-A31B13DFA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68B593-43F7-4033-A61B-9D6DF856F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2060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7452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6668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2060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7452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5F253D-43AB-4BDB-8A03-1B196B98030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514240" y="22824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1EC97B-B353-43E4-B13A-6AD36053E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060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7452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06668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72060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7452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FCB1C5-6986-4EBD-A9A7-630D52A2C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6C62EA-9948-4F77-B8E6-556B01D8A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606505-CBFF-4C5A-AFBB-0A3CF1A1B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514240" y="22824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FAE1C7-B9D2-40D4-97E7-CA5DF5F85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3FB7A1-A1A3-4185-A18F-4D0F3DDB3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171BA8-9192-4BE0-858F-7E7FCEA40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72FE93-2C81-4DF2-B48E-9693B86D7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7527960" y="6499080"/>
            <a:ext cx="11271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Jump to first page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8637480" y="6551640"/>
            <a:ext cx="131760" cy="15408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8866080" y="6553080"/>
            <a:ext cx="131760" cy="15408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93360" y="6400440"/>
            <a:ext cx="106524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93720" y="6553080"/>
            <a:ext cx="84456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 -</a:t>
            </a:r>
            <a:fld id="{0851802D-1535-4197-85CF-54DC02DEF055}" type="slidenum">
              <a:rPr b="0" lang="en-US" sz="9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6680" y="1523880"/>
            <a:ext cx="807732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496880" y="1676520"/>
            <a:ext cx="764712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90920" y="45684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28144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141120" y="6400440"/>
            <a:ext cx="26654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191120" y="5029200"/>
            <a:ext cx="4519440" cy="11286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590920" y="45684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RNDC and TSIG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oe Able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abley@isc.or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slideset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Using TSIG to protect AXF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eriving a secre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dnssec-keygen -a ... -b ... -n... name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nfiguring the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n named.conf file, same syntax as for rndc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key { algorithm ...; secret ...;}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king use of the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n named.conf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server x { key ...; }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here 'x' is an IP number of the other serve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4D2488-CE84-4D05-85BD-DBB8E90A33DA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figuration Examp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3" name=""/>
          <p:cNvSpPr/>
          <p:nvPr/>
        </p:nvSpPr>
        <p:spPr>
          <a:xfrm>
            <a:off x="533520" y="1676520"/>
            <a:ext cx="45720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Times New Roman"/>
              </a:rPr>
              <a:t>Primary server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9999"/>
                </a:solidFill>
                <a:latin typeface="Times New Roman"/>
                <a:ea typeface="Osaka"/>
              </a:rPr>
              <a:t>10.33.40.46</a:t>
            </a:r>
            <a:endParaRPr b="0" lang="en-US" sz="19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 ns1-ns2.zone.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algorithm hmac-md5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secret "APlaceToBe"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server 10.33.40.35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s {ns1-ns2.zone.;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zone "my.zone.test."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type master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file...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allow-transfer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 ns1-ns2.zone.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 ns1-ns3.zone.;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267080" y="1676520"/>
            <a:ext cx="45720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Times New Roman"/>
              </a:rPr>
              <a:t>Secondary server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9999"/>
                </a:solidFill>
                <a:latin typeface="Times New Roman"/>
                <a:ea typeface="Osaka"/>
              </a:rPr>
              <a:t>10.33.40.35</a:t>
            </a:r>
            <a:endParaRPr b="0" lang="en-US" sz="19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 ns1-ns2.zone.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algorithm hmac-md5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secret "APlaceToBe"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server 10.33.40.46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s {ns1-ns2.zone.;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zone "my.zone.test."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type slave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file...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masters {10.33.40.46;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allow-transfer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 ns1-ns2.zone.;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27280" y="5907240"/>
            <a:ext cx="72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gain, the secret looks okay, but is purposely invalid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E89BE4-440E-44F2-B760-D2A829022298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IME!!!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SIG is time sensitive - to stop repla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essage protection expires in 5 minu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ke sure time is synchroniz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or testing, set the 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n operations, (secure) NTP is need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AF6B02-FAF8-4878-BED1-DE0D744D7BF2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ther uses of TSI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SIG was designed for other purpo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rotecting sensitive stub resolver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s has proven hard to accomplis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ynamic Upd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iscussed later, securing this relies on TSI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0E5AE4-17D1-4F15-B2C1-D415EAF81427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lternatives to TSI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G (0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ublic key approach to same servic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as potential, but not much experience ye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eans to start with SIG(0) and wind up with TSI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lso, Microsoft uses this with Kerberos via GSSAP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7CDD8D-32C9-4489-AD5A-3E64D3B4D98C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is RNDC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mote Name Daemon Controll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and-line control of named daem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ually on same host, can be across hos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504EF2-8EA6-4D0B-ABB5-F453A54EF093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figuring RNDC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"rndc-conf" generates lines to be added to two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amed.con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ndc.con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8F83BF-9CAC-47D1-B7CF-C2E6B33C654A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Enabling RNDC in the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key defin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key rndc_key {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secret "</a:t>
            </a: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dY7/uIiR0fKGvi5z50+Q==</a:t>
            </a: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"; algorithm hmac-md5;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arning: example secret looks good but is invalid (don't copy it!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ntrols statem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controls {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inet 127.0.0.1 port 953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       </a:t>
            </a: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allow { 127.0.0.1; }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       </a:t>
            </a: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keys { "rndc-key"; };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C2D82A-8978-4D31-A149-F13455A12D65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Using an rndc.conf fi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/etc/rndc.conf specifies defaults for rnd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.g.,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key "rndc-key" {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algorithm hmac-md5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secret "dY7/uIiR0fKGvi5z50+Q=="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options {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default-key "rndc-key"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default-server 127.0.0.1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default-port 953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D56AA6-1ABD-4BB9-AA56-69F14BE68EF6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can be done with RNDC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ndc stop - kills serv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ndc status - prints some informa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ndc stats - generates stat file (named.stat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ndc reload - refresh zone(s), w/varia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ndc trace - increases debug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ndc flush - removes cached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commands in the AR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813064-3126-4831-AAB6-0389B0B9CC89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is TSIG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mechanism for protecting a message from a resolver to server and vice vers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keyed-hash is applied (like a digital signature) so recipient can verify messa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ased on a shared secret - both sender and reciever are configured with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26643D-7EEB-4337-9000-3499A5B36BD8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SIG and Message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1" name=""/>
          <p:cNvSpPr/>
          <p:nvPr/>
        </p:nvSpPr>
        <p:spPr>
          <a:xfrm>
            <a:off x="2895480" y="1828800"/>
            <a:ext cx="2438640" cy="838080"/>
          </a:xfrm>
          <a:prstGeom prst="rect">
            <a:avLst/>
          </a:prstGeom>
          <a:solidFill>
            <a:srgbClr val="cecece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NS Head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895480" y="2666880"/>
            <a:ext cx="2438640" cy="838440"/>
          </a:xfrm>
          <a:prstGeom prst="rect">
            <a:avLst/>
          </a:prstGeom>
          <a:solidFill>
            <a:srgbClr val="cecece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Question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895480" y="3505320"/>
            <a:ext cx="2438640" cy="838080"/>
          </a:xfrm>
          <a:prstGeom prst="rect">
            <a:avLst/>
          </a:prstGeom>
          <a:solidFill>
            <a:srgbClr val="cecece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nsw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895480" y="4343400"/>
            <a:ext cx="2438640" cy="838080"/>
          </a:xfrm>
          <a:prstGeom prst="rect">
            <a:avLst/>
          </a:prstGeom>
          <a:solidFill>
            <a:srgbClr val="cecece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uthority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895480" y="5181480"/>
            <a:ext cx="2438640" cy="914400"/>
          </a:xfrm>
          <a:prstGeom prst="rect">
            <a:avLst/>
          </a:prstGeom>
          <a:solidFill>
            <a:srgbClr val="cecece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dditional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&amp; TSIG data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666880" y="1752480"/>
            <a:ext cx="3353040" cy="3886200"/>
          </a:xfrm>
          <a:prstGeom prst="rect">
            <a:avLst/>
          </a:prstGeom>
          <a:noFill/>
          <a:ln w="38160">
            <a:solidFill>
              <a:srgbClr val="01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397480" y="2743200"/>
            <a:ext cx="154944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NS’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Original Message Format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8EC084-B23D-485F-9546-3D419F717DE9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Names and Secret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SIG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-27432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 name is given to the key, the name is what is transmitted in the message (so receiver knows what key the sender used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SIG secret valu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-27432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 value determined during key gener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-27432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Usually seen in Base64 encod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'Looks' like the rndc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-27432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IND uses same interface for TSIG and RNDC key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0A530D-448B-4566-860D-24B6D0517E76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31T16:17:50Z</dcterms:created>
  <dc:creator>edward lewis</dc:creator>
  <dc:description/>
  <dc:language>en-US</dc:language>
  <cp:lastModifiedBy>Marmaduke Wildebeeste</cp:lastModifiedBy>
  <cp:lastPrinted>2003-02-20T08:17:40Z</cp:lastPrinted>
  <dcterms:modified xsi:type="dcterms:W3CDTF">2003-06-01T20:50:02Z</dcterms:modified>
  <cp:revision>25</cp:revision>
  <dc:subject/>
  <dc:title>PowerPoint Presentation  -  RNDC and TSIG</dc:title>
</cp:coreProperties>
</file>