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62004"/>
        <c:axId val="11182598"/>
      </c:barChart>
      <c:catAx>
        <c:axId val="53162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2598"/>
        <c:crosses val="autoZero"/>
        <c:auto val="1"/>
        <c:lblAlgn val="ctr"/>
        <c:lblOffset val="100"/>
        <c:noMultiLvlLbl val="0"/>
      </c:catAx>
      <c:valAx>
        <c:axId val="11182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62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F27-796C-4C6B-89DE-709D3A8F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640-F267-4B98-B6E5-C4B9F104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6FC-AF0E-4AA7-8211-F7809162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864-473B-4B24-ABED-6208CDEF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942-6BE3-432B-A17A-F4AA7423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22B-915C-4750-BAFD-143FF324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DAF-4191-4434-8358-4D57C114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CA8-710C-44CC-AAB6-1DA02AB6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E9F-D446-45FA-A612-7CE9082F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DB3-D6CA-400E-8EEA-E2BD7D20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F5F-8843-4B21-B5E3-0D0D976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4B1-E129-44E2-A769-7726385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2578D-CBDF-4484-A078-5253039498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