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117658"/>
        <c:axId val="69134788"/>
      </c:barChart>
      <c:catAx>
        <c:axId val="381176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34788"/>
        <c:crosses val="autoZero"/>
        <c:auto val="1"/>
        <c:lblAlgn val="ctr"/>
        <c:lblOffset val="100"/>
        <c:noMultiLvlLbl val="0"/>
      </c:catAx>
      <c:valAx>
        <c:axId val="69134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176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265-380E-4CAE-B371-49600061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D122-9B1D-4C34-8E8D-16D4511D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DB43-BD06-4F58-AE49-E75E2FBE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655-1439-49F8-9A38-90FC7BB3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53F-5225-42D5-AC18-55617D9C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9692-7158-45E8-8AF9-B3F78A87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F91-C6D4-4BCF-A1E6-9D606F79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5DA-DB2D-4D54-94FA-7B0D517F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3F7-F0A9-48CE-87D9-F7296721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554-F154-4FE6-877C-34D5A775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79C-F618-4B28-9D4F-5639A9C2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5507-AEB0-49AE-96E2-00BE9613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C56A2-E1B1-44EC-A47F-D64AD0469E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