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59965"/>
        <c:axId val="33086759"/>
      </c:barChart>
      <c:catAx>
        <c:axId val="27959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86759"/>
        <c:crosses val="autoZero"/>
        <c:auto val="1"/>
        <c:lblAlgn val="ctr"/>
        <c:lblOffset val="100"/>
        <c:noMultiLvlLbl val="0"/>
      </c:catAx>
      <c:valAx>
        <c:axId val="33086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59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910-804B-48AC-B3DD-69D97D39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7C4B-6D31-4123-8220-6DC80F47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E05-EDE0-4527-BC2E-DE9D27AB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30D-394F-48E5-A4AA-4D5DD621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DC2C-70D9-4623-8937-2FFA6CCA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10F-BE4F-4A27-9859-53C605D7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222-B49E-45D5-AEE7-73C455EE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CBBD-53C9-40D4-BE44-75F0BEF9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55E-6F5E-46EB-88EA-FEF628AC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4BC-8E3E-418C-A6DA-B68CAF69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CD7-2E12-4335-8EEA-C9CBEDBC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A67F-4A00-48C4-B4FE-3418C5E2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5F971-6679-47F7-8C0E-6A8D8EA869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