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33581"/>
        <c:axId val="81300029"/>
      </c:barChart>
      <c:catAx>
        <c:axId val="83933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0029"/>
        <c:crosses val="autoZero"/>
        <c:auto val="1"/>
        <c:lblAlgn val="ctr"/>
        <c:lblOffset val="100"/>
        <c:noMultiLvlLbl val="0"/>
      </c:catAx>
      <c:valAx>
        <c:axId val="81300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33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C49-7508-431C-B977-BC3A9337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87B-993C-4308-906A-080D9C07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59D-F26E-429A-B79E-AE038AE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975-8281-4E3D-81C6-B40A99D3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368-9A92-452E-90CE-971C359F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A45-B245-4886-AE2E-000E6F1D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816-7CF8-413A-9A3D-A0CBB2F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EC7-67B0-4953-BE1E-7C6A59CB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AE9-0979-4CC1-9398-FB59127A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7A2-63A2-46AC-A64F-C35829C8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523-9DA7-41CC-8541-4DB732B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2DE-8D81-45BD-A264-498A398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6E7D-2CB3-4F63-B9D8-EA7A58D750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