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 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ret-Key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ach pair of parties must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 secret ke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 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a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’s RC2, RC4, RC5 and RC6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DEA (J. Massey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ge Diges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ransform a message of any length to a fixed lengt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ryptographic hash functions are used for this purpos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llision-resistan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e-wa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’s MD2, MD4 and MD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A-1, SHA-2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eed for Standard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-Digest algorithms (PKCS #1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-Key algorithms (PKCS #1, PKCS #3, PKCS #13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yntax for signed messages (PKCS #7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torage of private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yntax for private keys (PKCS #1, PKCS #8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yntax for encrypted private keys (PKCS #8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thods for deriving secret keys from passwords (PKCS #5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eed for Standardization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ly-Enveloped messag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 syntax (PKCS #7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ret-Key algorithms (PKCS #7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-Key algorithms (for wrapping) (PKCS #1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yntax (PKCS #6; now historic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ertificate requests (PKCS #10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ature algorithms (PKCS #1)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eed for Standardization,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Key agreem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 syntax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-Agreement algorithms (PKCS #3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torage, access and exchange of cryptographic credential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xchange, Storage (PKCS #12, PKCS #15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ccess (PKCS #11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tion of pseudorandom numb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rucial for security; needs good guidelines (PKCS #14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880"/>
            <a:ext cx="7686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24200" indent="-1242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: Backgroun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399960" indent="-1533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ome histor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399960" indent="-1533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ryptographic background inform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399960" indent="-1533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ngs that needs to be standardiz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24200" indent="-1242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I: An ASN.1 Primer (if needed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124200" indent="-1242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art III: Review of Active Document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114800"/>
            <a:ext cx="2514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114800"/>
            <a:ext cx="3047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should make for a full half-day!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“Distinctiv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urpos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atalyst for formal and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de facto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stand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issing pieces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-key infrastructure, as well as cryptograph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formal,” “intervendor”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series created in the early 1990’s to promote public-key cryptograph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itial documents defin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Encryption/De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 Signatures/Verif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ffie-Hellman key exchang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ssword-based encry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xtended certificates (remember, only X.509v1 available at the time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veloping of messag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’ role in the standards-making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sh the documen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olicit opinions and request for changes from develope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sh revised versions whenever appropri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vide implementation guidelin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’ retain the sole decision-making autho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3680" indent="-2811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fferent from “normal” standards-committee work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2752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gives a quick process - normally less than one year for a new specif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oal is not to retain ownership of these documents, but to facilitate “early adoption”, e.g.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6 -&gt; X.509 v3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7 -&gt; IETF C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 #15 -&gt; ISO (perhap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Cryptographic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e’ll look 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blic-key cryptograph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ret-key cryptograph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ssage-digest algorithm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-Key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vented” by Diffie and Hellman in 1976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ach party has one private key and one publ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a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 agreements (Key exchange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thent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S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lliptic Curv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ffie-Hellma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4:57:45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2:50:32Z</dcterms:modified>
  <cp:revision>6</cp:revision>
  <dc:subject/>
  <dc:title>RSA Laboratories’ PKCS Series - an Introduction</dc:title>
</cp:coreProperties>
</file>