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onal Information Exchange Syntax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scribes a transfer syntax for personal identity inform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vate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ertifica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t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 extension and generalization of PKCS #8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ersonal information may b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fidentiality protected an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tegrity protec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onal Information Exchange Syntax Standard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 both types of protections, password-based or public-key based protection is possib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ssword-based is by far the most common mod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FX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PFX = Personal inFormation eXchang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2209680"/>
            <a:ext cx="5715000" cy="1676520"/>
            <a:chOff x="1828800" y="2209680"/>
            <a:chExt cx="5715000" cy="1676520"/>
          </a:xfrm>
        </p:grpSpPr>
        <p:sp>
          <p:nvSpPr>
            <p:cNvPr id="89" name=""/>
            <p:cNvSpPr/>
            <p:nvPr/>
          </p:nvSpPr>
          <p:spPr>
            <a:xfrm>
              <a:off x="1828800" y="2209680"/>
              <a:ext cx="5715000" cy="16765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27432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32767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98640" y="2249640"/>
              <a:ext cx="130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98640" y="27590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thSa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8640" y="33685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cData (option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90720" y="4038480"/>
            <a:ext cx="768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 marL="144720" indent="-14472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authSafe is of type data or signedData (from PKCS #7)(usually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contents is, in turn, a SEQUENCE OF ContentInfo (PKCS #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afeBag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998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8520" indent="-218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ach contentInfo may be enveloped, encrypted or plain data. The plain data will be a SEQUENCE OF SafeBag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2895480"/>
            <a:ext cx="5715000" cy="1676520"/>
            <a:chOff x="1828800" y="2895480"/>
            <a:chExt cx="5715000" cy="1676520"/>
          </a:xfrm>
        </p:grpSpPr>
        <p:sp>
          <p:nvSpPr>
            <p:cNvPr id="99" name=""/>
            <p:cNvSpPr/>
            <p:nvPr/>
          </p:nvSpPr>
          <p:spPr>
            <a:xfrm>
              <a:off x="1828800" y="2895480"/>
              <a:ext cx="5715000" cy="16765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34290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8800" y="39625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98640" y="2935440"/>
              <a:ext cx="13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g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8640" y="34448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g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8640" y="40543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g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000080" y="4724280"/>
            <a:ext cx="76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186120" indent="-18612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agID is an OBJECT IDENT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6120" indent="-18612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agAttributes is usually some mnemonics or a cross-reference (e.g. key &lt;-&gt; certific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g typ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re are 6 bag typ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key ba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8 shrouded key ba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ertificate ba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rl ba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ret ba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afe contents bag (recursive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g types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key ba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values of type PrivateKeyInfo (PKCS #8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just one ke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shrouded key ba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values of type EncryptedPrivateKeyInfo (PKCS #8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just one ke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13840" indent="-2138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certificate ba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X.509 or SDSI certifica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9040" indent="-2638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f corresponding private key is in another bag, the shall be cross-referenced with attribu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g types, I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crl ba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X.509 CRL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secret ba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ains various items which the user regards in need of prote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.g.: passwords, login inform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safe contents ba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ables recurs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er, PKCS #12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sion 1.0 was not published until June this year, although drafts where out early in 1997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plans for revisions, PKCS #15 likely to make PKCS #12 less importa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ore inform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rsalabs/pkc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21:28:16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9:48:52Z</dcterms:modified>
  <cp:revision>3</cp:revision>
  <dc:subject/>
  <dc:title>RSA Laboratories’ PKCS Series - a Tutorial</dc:title>
</cp:coreProperties>
</file>