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79017"/>
        <c:axId val="66442134"/>
      </c:barChart>
      <c:catAx>
        <c:axId val="91779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42134"/>
        <c:crosses val="autoZero"/>
        <c:auto val="1"/>
        <c:lblAlgn val="ctr"/>
        <c:lblOffset val="100"/>
        <c:noMultiLvlLbl val="0"/>
      </c:catAx>
      <c:valAx>
        <c:axId val="66442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9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423-7C03-40FC-A12C-E8A8825A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C6-2CF4-4B71-B5AD-CD9F4B0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519-C690-465E-A483-B22F24EE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BEE-DF0A-4DAD-A144-EFB52EC8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871-1205-4819-BF0B-50880DD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4AD-C1C4-4160-8A10-93D7D41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A1C-4F08-43E4-A024-D9F804C2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95F-3D24-4FF2-9869-ED57D3D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D9C-48E3-4689-9C63-257B1DA4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E4A-FA78-4DB3-8085-3AAC1B2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973-7852-4F0B-8662-CABDE82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341-4786-4E42-8405-A488386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682E-CC46-492C-B855-A8055A7FA5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