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9C8-6D32-4205-B54B-2351FC95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9AF-B06D-4901-84C8-4AEA9B0E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190-9B08-4D79-9614-1F585F2B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E1F-6226-42CB-BE31-67CD65D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724-8195-4D66-9E89-68C761F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2C4-6E4D-4471-A40E-1CE727E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37F-9A5A-485C-93D0-742C39E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4BB-2754-4B4A-8AB8-C6662A4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E7E-65E0-4C40-A9E1-CBDA4767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BBE-2894-40FA-B117-27A63F5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8EC-5D7D-435A-A5B7-4930B06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8D5-478B-4F5D-BDFF-9B2C1C8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4E6-F69D-4803-99BB-00845149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come to RSA Conference Europe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m Bidz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A Conference Chair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alm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alm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has been optimized to fit into smaller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58672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for using R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in sm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new certifica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s by RSA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tandards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Stand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S #15 for Smart Card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 specifies RSA RC5 as only mandatory symmetric cipher for client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AES fi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laws 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gaining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and technology prog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feren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class t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60 t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more than 750 attend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gen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6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ks an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RSA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ack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Hacks and Attac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rested for global multi-mil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Interne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free hotmail hac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lion users imp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from Hanover convi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blishing TFN program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nial-of-Servic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news agency’s websi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ov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gov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w on encryption lib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duces constraints on mass market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sh paper affirms commitment to relax cryptography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vnew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relaxes strong crypto export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mmons Committe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dish law allows for export of up to 128 bit symmetric cry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" y="59436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rester Research, Dec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09840"/>
            <a:ext cx="7772400" cy="24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all Europeans will use the Net through mobile phon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 out of 10 Internet leaders in Europe plan to launch mobile 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are building sit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ert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421000"/>
            <a:ext cx="7772400" cy="11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Commission uses legal framework to guarantee security of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certnews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ertnews2" descr=""/>
            <p:cNvPicPr/>
            <p:nvPr/>
          </p:nvPicPr>
          <p:blipFill>
            <a:blip r:embed="rId3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certnews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ertnews3" descr=""/>
            <p:cNvPicPr/>
            <p:nvPr/>
          </p:nvPicPr>
          <p:blipFill>
            <a:blip r:embed="rId5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4357800"/>
              <a:ext cx="7772400" cy="103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inland bill on electronic personal identification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ertnew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abinet approved draft law on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certnews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certnews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talian technical rules for digital signatures publis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gital Certificate and PKI Adop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69960" y="2386080"/>
          <a:ext cx="2378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386080"/>
                    <a:ext cx="2378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362320" y="3948120"/>
          <a:ext cx="341316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48120"/>
                    <a:ext cx="34131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25280" y="380988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5600" y="214776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130480"/>
            <a:ext cx="22860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5943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ata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3040" y="2057400"/>
            <a:ext cx="117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360" y="2435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52680" y="2362320"/>
            <a:ext cx="103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360" y="2739960"/>
            <a:ext cx="2286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3400" y="266688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360" y="3044880"/>
            <a:ext cx="228600" cy="228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4120" y="2971800"/>
            <a:ext cx="255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8360" y="3349800"/>
            <a:ext cx="228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3400" y="327672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360" y="365436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2320" y="3581280"/>
            <a:ext cx="178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360" y="3959280"/>
            <a:ext cx="228600" cy="228600"/>
          </a:xfrm>
          <a:prstGeom prst="rect">
            <a:avLst/>
          </a:prstGeom>
          <a:solidFill>
            <a:srgbClr val="d7cdb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2680" y="3886200"/>
            <a:ext cx="137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20:54:09Z</dcterms:created>
  <dc:creator>Valued Sony Customer</dc:creator>
  <dc:description/>
  <dc:language>en-US</dc:language>
  <cp:lastModifiedBy>Administrator</cp:lastModifiedBy>
  <dcterms:modified xsi:type="dcterms:W3CDTF">2000-04-11T09:39:12Z</dcterms:modified>
  <cp:revision>117</cp:revision>
  <dc:subject/>
  <dc:title>RSA Conference Europe 2000</dc:title>
</cp:coreProperties>
</file>