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21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8EFE-3B77-4ABE-B26F-9826EF5DB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much for your time today, and, at this point, I would like to answer any questions that you may hav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F18-70E2-4FB9-BEC5-4E2864C5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637-32F9-4F3D-BFF7-DF1E8D89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2A6-6C54-45D6-B9A4-F8CE4374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16A-A037-4D2D-B8E3-B0C6E940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95D-23BE-4427-AFAF-0C3D8304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CDA-2C8A-4E42-BB7A-EDD1BB12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BCF-3ED2-4DCE-B58C-DCE642B6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677-AF23-4F0A-B4B5-1EDBA5CF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3E5-00A7-473E-84D4-F8F2167A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016-D2F1-4388-9951-F85611A7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DF4-8A5A-4054-A591-0908D9B8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66A-0244-45B2-B09F-88ADC51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64B-052F-47BA-BAA6-B1FCB0B9A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0" y="50292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tt Schn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ior Vice President,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 Security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chematic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Multi-Party Exchan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5978520"/>
            <a:ext cx="3886200" cy="7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 multi-party exchanges, the exchange becomes the keystone of trust and interoperability becomes necessa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10480" y="4854600"/>
            <a:ext cx="12319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hang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ways be invol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1640" y="1928880"/>
            <a:ext cx="12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-Security is a Critical Enabl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parties to prevent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rypt traffic, browsing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s for priv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 authorship and integri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nforc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eamless compatibili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ired e-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83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362320" y="5715000"/>
            <a:ext cx="4419360" cy="533520"/>
            <a:chOff x="2362320" y="5715000"/>
            <a:chExt cx="4419360" cy="533520"/>
          </a:xfrm>
        </p:grpSpPr>
        <p:sp>
          <p:nvSpPr>
            <p:cNvPr id="137" name=""/>
            <p:cNvSpPr/>
            <p:nvPr/>
          </p:nvSpPr>
          <p:spPr>
            <a:xfrm flipV="1">
              <a:off x="2362320" y="5715000"/>
              <a:ext cx="4419360" cy="533520"/>
            </a:xfrm>
            <a:custGeom>
              <a:avLst/>
              <a:gdLst>
                <a:gd name="textAreaLeft" fmla="*/ 545040 w 4419360"/>
                <a:gd name="textAreaRight" fmla="*/ 3874320 w 4419360"/>
                <a:gd name="textAreaTop" fmla="*/ 65520 h 533520"/>
                <a:gd name="textAreaBottom" fmla="*/ 468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53" y="21600"/>
                  </a:lnTo>
                  <a:lnTo>
                    <a:pt x="1647" y="21600"/>
                  </a:lnTo>
                  <a:close/>
                </a:path>
              </a:pathLst>
            </a:custGeom>
            <a:solidFill>
              <a:srgbClr val="e7c147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7640" y="5753160"/>
              <a:ext cx="1669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nd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and Wirel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1447920"/>
            <a:ext cx="2895480" cy="4800600"/>
            <a:chOff x="1676520" y="1447920"/>
            <a:chExt cx="2895480" cy="4800600"/>
          </a:xfrm>
        </p:grpSpPr>
        <p:sp>
          <p:nvSpPr>
            <p:cNvPr id="141" name=""/>
            <p:cNvSpPr/>
            <p:nvPr/>
          </p:nvSpPr>
          <p:spPr>
            <a:xfrm>
              <a:off x="1676520" y="1447920"/>
              <a:ext cx="2895480" cy="4800600"/>
            </a:xfrm>
            <a:custGeom>
              <a:avLst/>
              <a:gdLst/>
              <a:ahLst/>
              <a:rect l="l" t="t" r="r" b="b"/>
              <a:pathLst>
                <a:path w="1824" h="3024">
                  <a:moveTo>
                    <a:pt x="0" y="3024"/>
                  </a:moveTo>
                  <a:lnTo>
                    <a:pt x="432" y="3024"/>
                  </a:lnTo>
                  <a:lnTo>
                    <a:pt x="1824" y="720"/>
                  </a:lnTo>
                  <a:lnTo>
                    <a:pt x="1824" y="0"/>
                  </a:lnTo>
                  <a:lnTo>
                    <a:pt x="0" y="3024"/>
                  </a:lnTo>
                  <a:close/>
                </a:path>
              </a:pathLst>
            </a:custGeom>
            <a:solidFill>
              <a:srgbClr val="e7c045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054000">
              <a:off x="2163960" y="3859200"/>
              <a:ext cx="2227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SA 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1640" y="1447920"/>
            <a:ext cx="2895480" cy="4800600"/>
            <a:chOff x="4571640" y="1447920"/>
            <a:chExt cx="2895480" cy="4800600"/>
          </a:xfrm>
        </p:grpSpPr>
        <p:sp>
          <p:nvSpPr>
            <p:cNvPr id="144" name=""/>
            <p:cNvSpPr/>
            <p:nvPr/>
          </p:nvSpPr>
          <p:spPr>
            <a:xfrm flipH="1">
              <a:off x="4571280" y="1447920"/>
              <a:ext cx="2895480" cy="4800600"/>
            </a:xfrm>
            <a:custGeom>
              <a:avLst/>
              <a:gdLst/>
              <a:ahLst/>
              <a:rect l="l" t="t" r="r" b="b"/>
              <a:pathLst>
                <a:path w="1824" h="3024">
                  <a:moveTo>
                    <a:pt x="0" y="3024"/>
                  </a:moveTo>
                  <a:lnTo>
                    <a:pt x="432" y="3024"/>
                  </a:lnTo>
                  <a:lnTo>
                    <a:pt x="1824" y="720"/>
                  </a:lnTo>
                  <a:lnTo>
                    <a:pt x="1824" y="0"/>
                  </a:lnTo>
                  <a:lnTo>
                    <a:pt x="0" y="3024"/>
                  </a:lnTo>
                  <a:close/>
                </a:path>
              </a:pathLst>
            </a:custGeom>
            <a:solidFill>
              <a:srgbClr val="e7c045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3477600">
              <a:off x="5081760" y="3858480"/>
              <a:ext cx="1416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artn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681280" y="2590920"/>
            <a:ext cx="3765600" cy="3124080"/>
          </a:xfrm>
          <a:prstGeom prst="triangle">
            <a:avLst>
              <a:gd name="adj" fmla="val 50000"/>
            </a:avLst>
          </a:prstGeom>
          <a:solidFill>
            <a:srgbClr val="d824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SA Wireless Development Ce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120" y="759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nouncing: RSA Wireless Development Cent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641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ing corporate, product and partner development in wireless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ng extensions to RSA Security’s wireless product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by John Adams, CTO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managers for Labs, R&amp;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orpora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in Stockho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8640" y="3048120"/>
            <a:ext cx="2301840" cy="1911240"/>
          </a:xfrm>
          <a:prstGeom prst="triangle">
            <a:avLst>
              <a:gd name="adj" fmla="val 50000"/>
            </a:avLst>
          </a:prstGeom>
          <a:solidFill>
            <a:srgbClr val="d824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rel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abl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20" y="568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2766960"/>
            <a:ext cx="3429000" cy="31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P / WT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TLS certificat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KCS #15 Crypto information storage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uetooth security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5000" y="2766960"/>
            <a:ext cx="3255840" cy="3400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n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T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ersi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0640" y="1932120"/>
            <a:ext cx="205272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31080" y="1933560"/>
            <a:ext cx="295884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57600" y="2514600"/>
            <a:ext cx="5486400" cy="4343400"/>
          </a:xfrm>
          <a:prstGeom prst="rect">
            <a:avLst/>
          </a:prstGeom>
          <a:solidFill>
            <a:srgbClr val="b28c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Products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ptimized for Wireless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8600" y="4800600"/>
            <a:ext cx="1523880" cy="1295280"/>
            <a:chOff x="228600" y="4800600"/>
            <a:chExt cx="1523880" cy="1295280"/>
          </a:xfrm>
        </p:grpSpPr>
        <p:sp>
          <p:nvSpPr>
            <p:cNvPr id="159" name=""/>
            <p:cNvSpPr/>
            <p:nvPr/>
          </p:nvSpPr>
          <p:spPr>
            <a:xfrm>
              <a:off x="228600" y="4800600"/>
              <a:ext cx="1523880" cy="129528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720" y="5302080"/>
              <a:ext cx="59220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Trus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752480" y="4800600"/>
            <a:ext cx="7391520" cy="1295280"/>
            <a:chOff x="1752480" y="4800600"/>
            <a:chExt cx="7391520" cy="1295280"/>
          </a:xfrm>
        </p:grpSpPr>
        <p:sp>
          <p:nvSpPr>
            <p:cNvPr id="162" name=""/>
            <p:cNvSpPr/>
            <p:nvPr/>
          </p:nvSpPr>
          <p:spPr>
            <a:xfrm>
              <a:off x="1752480" y="4800600"/>
              <a:ext cx="7391520" cy="129528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keon%20logo%20grey" descr=""/>
            <p:cNvPicPr/>
            <p:nvPr/>
          </p:nvPicPr>
          <p:blipFill>
            <a:blip r:embed="rId1"/>
            <a:stretch/>
          </p:blipFill>
          <p:spPr>
            <a:xfrm>
              <a:off x="1817640" y="5114880"/>
              <a:ext cx="22669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0" y="4944960"/>
              <a:ext cx="44956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ertification and policy management systems for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nded enterprise secur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8600" y="3352680"/>
            <a:ext cx="1523880" cy="1295640"/>
            <a:chOff x="228600" y="3352680"/>
            <a:chExt cx="1523880" cy="1295640"/>
          </a:xfrm>
        </p:grpSpPr>
        <p:sp>
          <p:nvSpPr>
            <p:cNvPr id="166" name=""/>
            <p:cNvSpPr/>
            <p:nvPr/>
          </p:nvSpPr>
          <p:spPr>
            <a:xfrm>
              <a:off x="228600" y="3352680"/>
              <a:ext cx="1523880" cy="129564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7320" y="3854520"/>
              <a:ext cx="76608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Privac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52480" y="3352680"/>
            <a:ext cx="7391520" cy="1295640"/>
            <a:chOff x="1752480" y="3352680"/>
            <a:chExt cx="7391520" cy="1295640"/>
          </a:xfrm>
        </p:grpSpPr>
        <p:sp>
          <p:nvSpPr>
            <p:cNvPr id="169" name=""/>
            <p:cNvSpPr/>
            <p:nvPr/>
          </p:nvSpPr>
          <p:spPr>
            <a:xfrm>
              <a:off x="1752480" y="3352680"/>
              <a:ext cx="7391520" cy="129564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bsafe%20logo%20grey" descr=""/>
            <p:cNvPicPr/>
            <p:nvPr/>
          </p:nvPicPr>
          <p:blipFill>
            <a:blip r:embed="rId2"/>
            <a:stretch/>
          </p:blipFill>
          <p:spPr>
            <a:xfrm>
              <a:off x="1817640" y="3673440"/>
              <a:ext cx="25592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572000" y="3497400"/>
              <a:ext cx="444816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ireless security software and embedded encryption engines for wireless devices and 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28600" y="1905120"/>
            <a:ext cx="1523880" cy="1295280"/>
            <a:chOff x="228600" y="1905120"/>
            <a:chExt cx="1523880" cy="1295280"/>
          </a:xfrm>
        </p:grpSpPr>
        <p:sp>
          <p:nvSpPr>
            <p:cNvPr id="173" name=""/>
            <p:cNvSpPr/>
            <p:nvPr/>
          </p:nvSpPr>
          <p:spPr>
            <a:xfrm>
              <a:off x="228600" y="1905120"/>
              <a:ext cx="1523880" cy="129528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2408400"/>
              <a:ext cx="133272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uthentic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52480" y="1905120"/>
            <a:ext cx="7391520" cy="1295280"/>
            <a:chOff x="1752480" y="1905120"/>
            <a:chExt cx="7391520" cy="1295280"/>
          </a:xfrm>
        </p:grpSpPr>
        <p:sp>
          <p:nvSpPr>
            <p:cNvPr id="176" name=""/>
            <p:cNvSpPr/>
            <p:nvPr/>
          </p:nvSpPr>
          <p:spPr>
            <a:xfrm>
              <a:off x="1752480" y="1905120"/>
              <a:ext cx="7391520" cy="129528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securid%20logo%20grey" descr=""/>
            <p:cNvPicPr/>
            <p:nvPr/>
          </p:nvPicPr>
          <p:blipFill>
            <a:blip r:embed="rId3"/>
            <a:stretch/>
          </p:blipFill>
          <p:spPr>
            <a:xfrm>
              <a:off x="1817640" y="2222640"/>
              <a:ext cx="274176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72000" y="2049480"/>
              <a:ext cx="441180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mbedded in handsets; authorization management services for operators and carr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120" y="759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nouncing:  MultiPrim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™</a:t>
            </a:r>
            <a:br>
              <a:rPr sz="34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Cryptography for Wire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8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SA Security and Compaq unveil MultiPrime, advanced cryptography for wireless &amp; embed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 2X performance of regular RSA algorithm in wireless handheld signing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 6X acceleration for wireles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ull strength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te compat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le in forthcoming BSAFE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l. BSAFE WTLS-C in June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le in Compaq accelerators June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ransit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62520" y="990720"/>
            <a:ext cx="5181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s Before Us – Beyond Technology, Standards &amp;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23960" y="3029040"/>
            <a:ext cx="434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rivac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85400" y="3454560"/>
            <a:ext cx="319716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nterpr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The Gover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The Operat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7960" y="2185920"/>
            <a:ext cx="550116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has access to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520" y="2789280"/>
            <a:ext cx="6721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controls the access to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00" y="1698480"/>
            <a:ext cx="90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reless devices will be able to track an individual’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0"/>
            <a:ext cx="9150840" cy="6858000"/>
            <a:chOff x="0" y="0"/>
            <a:chExt cx="9150840" cy="6858000"/>
          </a:xfrm>
        </p:grpSpPr>
        <p:pic>
          <p:nvPicPr>
            <p:cNvPr id="190" name="privacy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37960" y="2185920"/>
              <a:ext cx="5501160" cy="53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has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520" y="2789280"/>
              <a:ext cx="6721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controls the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400" y="169848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reless devices will be able to track an individual’s loc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5760" y="3460680"/>
              <a:ext cx="3197160" cy="2667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Enterpri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Government?</a:t>
              </a: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Operato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0" y="0"/>
            <a:ext cx="9150840" cy="6858000"/>
            <a:chOff x="0" y="0"/>
            <a:chExt cx="9150840" cy="6858000"/>
          </a:xfrm>
        </p:grpSpPr>
        <p:pic>
          <p:nvPicPr>
            <p:cNvPr id="196" name="privacy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37960" y="2185920"/>
              <a:ext cx="5501160" cy="53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has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520" y="2789280"/>
              <a:ext cx="6721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controls the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00" y="169848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reless devices will be able to track an individual’s loc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85760" y="3460680"/>
              <a:ext cx="3197160" cy="2667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Enterpri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Government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Operato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ivacy Concer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4" name="control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7" name="control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92360" y="2946240"/>
              <a:ext cx="198144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1" name="control3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92360" y="2946240"/>
              <a:ext cx="198144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4048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ivid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rol of De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5889600"/>
            <a:ext cx="4486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controls this if and when the devices me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560" y="1925640"/>
            <a:ext cx="75294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n today’s devices, different parties control the access to,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tent on, and policy management of each devi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lcome to a Wireless Worl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…does reality justify the hy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e-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 and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e go from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liabilit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21640" y="4533840"/>
            <a:ext cx="1145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1" name="reliability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821640" y="4533840"/>
              <a:ext cx="1145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58040" y="5562720"/>
              <a:ext cx="2135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49040" y="2505240"/>
            <a:ext cx="3964680" cy="3840120"/>
            <a:chOff x="4649040" y="2505240"/>
            <a:chExt cx="3964680" cy="3840120"/>
          </a:xfrm>
        </p:grpSpPr>
        <p:pic>
          <p:nvPicPr>
            <p:cNvPr id="225" name="reliability3" descr=""/>
            <p:cNvPicPr/>
            <p:nvPr/>
          </p:nvPicPr>
          <p:blipFill>
            <a:blip r:embed="rId3"/>
            <a:srcRect l="51496" t="36527" r="5801" b="7475"/>
            <a:stretch/>
          </p:blipFill>
          <p:spPr>
            <a:xfrm>
              <a:off x="4708440" y="2505240"/>
              <a:ext cx="390528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21640" y="4533840"/>
              <a:ext cx="1145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7360" y="3048120"/>
              <a:ext cx="1233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pgr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58040" y="5562720"/>
              <a:ext cx="2135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9040" y="3048120"/>
              <a:ext cx="15537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will certify which applications can work on which phones with various operating systems and different operato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the phone reboot to accept new applic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prevent introduction of viru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you recover when an application crashes a phone – and who pay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vice Reliabil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et just got bigger – with a whole new set of wireless users, applications, and infrastructure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technologies to ensure security, performance and interoperability are her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hallenge now is to define policy and management to ensure privacy, reliability, and system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435560" y="5016600"/>
            <a:ext cx="455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e Most Trusted Name in e-Security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38800" y="5653080"/>
            <a:ext cx="265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www.rsasecurity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SA%20logo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19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— It’s Everywhere, Anywhere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71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phones to reach 1 billion by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-ready phones will outnumber PCs by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million wireless phones with Intern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by year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of B2C commerce on wireless devices by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ut of three Europeans to tap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bile Internet by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8% of wireless traf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voic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ng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ed visual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low, slow,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5360" y="5229360"/>
            <a:ext cx="3611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 - Absolute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es Reality Justify the Hyp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752480"/>
            <a:ext cx="3581280" cy="3581640"/>
          </a:xfrm>
          <a:prstGeom prst="noSmoking">
            <a:avLst>
              <a:gd name="adj" fmla="val 12500"/>
            </a:avLst>
          </a:prstGeom>
          <a:solidFill>
            <a:srgbClr val="d80427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, It’s Only the Beginning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user pricing is 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r apps are around the co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 costs held in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evices hitting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 and capacity incr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 impro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 demand on the 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europ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d Europe is Lead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0016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leader in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GSM standard drives ad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ly high quality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illing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penetration for GSM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s aggressively promot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P, SMS and other data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consolidation and partn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Impact of Wireless on e-Busi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4784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anytime,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applications, rea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device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enticatio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 sign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8" name="schematic1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schematic1b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798360" y="1905120"/>
              <a:ext cx="14882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49680" y="2287440"/>
              <a:ext cx="178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schematic1c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30960" y="1905120"/>
              <a:ext cx="1123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uetoo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98360" y="1905120"/>
              <a:ext cx="14882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49680" y="2287440"/>
              <a:ext cx="178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733920" y="557532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security in the enterprise is essentially an authentication, authorization, and privac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the Enterpri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chematic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B2B Exchan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557532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Business-to-Business exchanges, integrity and non-repudiation become additional security conce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52:55Z</dcterms:created>
  <dc:creator>garrett</dc:creator>
  <dc:description/>
  <dc:language>en-US</dc:language>
  <cp:lastModifiedBy>Administrator</cp:lastModifiedBy>
  <cp:lastPrinted>2000-03-31T15:48:55Z</cp:lastPrinted>
  <dcterms:modified xsi:type="dcterms:W3CDTF">2000-04-11T09:41:55Z</dcterms:modified>
  <cp:revision>95</cp:revision>
  <dc:subject/>
  <dc:title>PowerPoint Presentation</dc:title>
</cp:coreProperties>
</file>