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232-699F-4C39-B99C-340B22FB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5B5-54C8-4E60-9D44-C7C27ABA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B96-6893-4FB3-8BDD-6023F6CD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F11-8596-432E-8F16-322E7EAF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CF07-CD94-4BD8-989E-11E536BD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515A-CED4-408D-B0FD-B105E136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90BA-1ACD-4B99-BEA8-230B8C8D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E4BE-6B40-4E41-879C-20896F96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D1CF-4921-4ED1-8976-2AD679EC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7EDE-5657-495F-9787-C9DFF54D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A23A-86C5-4FE7-809A-CC741DEE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C41-F5F2-445A-955C-D71B3DBA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77C3-8804-4982-9952-A0BF2B84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B4B6-44C6-45F9-A4CE-8FB7418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9EAD-90BF-429A-8050-CDDA7CFA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4C2E-E607-4A53-8BE7-D3D1B4F1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9530-D4EE-4B06-8D83-65C937FD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48B-A5E2-4C45-BE06-BFEA5B27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E0B-2DF7-4F69-8A82-957F5BFA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EB1-716B-4351-AA1A-FA6B2B26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A21-24D4-45E6-B26A-5E915EE9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499-929D-45E6-A04E-27DD760D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27B-CA56-489B-B3CA-06EB2D6F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C91-7D73-4E6F-BE53-FBBA5D0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Symbol"/>
                <a:ea typeface="Symbol"/>
              </a:rPr>
              <a:t>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American International Group (2000)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Network Security Risks and 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6BF3-B51B-4FDF-9674-65D15CB65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" name="AIG" descr=""/>
          <p:cNvPicPr/>
          <p:nvPr/>
        </p:nvPicPr>
        <p:blipFill>
          <a:blip r:embed="rId3"/>
          <a:stretch/>
        </p:blipFill>
        <p:spPr>
          <a:xfrm>
            <a:off x="0" y="0"/>
            <a:ext cx="7714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0FE4-7DF1-4C80-AA10-EF2F2EC35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676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itigating the Risks of E-Business: Insurance Initiativ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Presented B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Fo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SA CONFERENCE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an Jose, C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uesday, January 18,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AIG" descr=""/>
          <p:cNvPicPr/>
          <p:nvPr/>
        </p:nvPicPr>
        <p:blipFill>
          <a:blip r:embed="rId2"/>
          <a:stretch/>
        </p:blipFill>
        <p:spPr>
          <a:xfrm>
            <a:off x="0" y="152280"/>
            <a:ext cx="838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: covers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bodily injury/tangible property damage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uffered by other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&amp;O: Maybe coverage if you provide professional services to others for a fe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 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- Sometimes.  (Links, ads not covered. Recent carriers are expressly excluding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NO.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Rol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sset prote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inanci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tangible asse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pu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chnological products and servic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itional smoothing/as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Tahoma"/>
              </a:rPr>
              <a:t>Technology + Insurance = Heightened Trust Environ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fically designed for risks associated with failures of your network or computer security system to prevent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puter Attacks (unauthorized access/us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mission of a computer virus to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sclosure of client privacy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7 Basic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(intangible/information) property lo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ss of eReven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blic relations (crisis mgmt)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abili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nial of Service Clai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irus transmi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sclosure of personal or confidential data of your custom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fessional errors and omiss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edia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b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lan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righ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en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 of privacy viola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ber-extor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ring private investigator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investigation expen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ransom demand (must be reasonab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per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are these assets worth to you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accounting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trade secrets (may require additional information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ustom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ompetitive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suppli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usiness interruption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business interruption: Revenue generated from on-line transactions ceases due to attack on your syst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pendent business interruption Revenue generated from on-line transactions ceases due to attack on a system of a business you depend up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nded business interrup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twork Security: How big is the problem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risks do you fac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traditional insurance help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day’s New Insurance solution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7 basic risks to cov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 to ask f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jor terms to require and avoid!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iminal Reward, Public Rel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: $25-50K reward for information leading to the arrest and conviction of a cyber-criminal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sis communications: $25-$50k for public relations/media/crisis communication fees to restore investor or customer confidenc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ss Prevention Servi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Assessment: Cost effective security assessment conducted by a member of the insurer’s panel.  Partial or total reimbursement sometimes available if you decide to purchase polic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gal analysis: Access to specialized technology law firm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failures” include attack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ider or outsid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entional or non-intention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fit motivated or “for fun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rgeted or untargeted vict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rom failures of software, hardware or firmwa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ocial engineer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Claim (beyond just lawsuit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Loss (including punitive damag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information ass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ility to underwrite trade secr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orld-wide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not covered?</a:t>
            </a:r>
            <a:br>
              <a:rPr sz="4400"/>
            </a:b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(not exclusive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ts of God, fire, wind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rrorism, explosions, war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or project plann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ies liabilities, ERISA liabili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ttacks on internet infrastructure itsel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raud (not applicable to computer attacks by employe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ransactional Smoothing: The Futur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 Narrow"/>
              </a:rPr>
              <a:t>E-Business Transaction Ris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 of the par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/quality of the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bility to pay / Ability to ship-manufa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ctual payment / Actual delive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Damage to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Security &amp; Reliability of network / infra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ing Out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focused on management liability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s and officers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PO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&amp;O insurance (brick-and-mortar operatio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ployment Practices (including discrimination/sexual harassment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For More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insurance broker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local AIG offi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175 Water Street, NY NY 10038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2-458-2429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y.sagalow@aig.co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wproduc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@aig.co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83% increase in number of computer attack incidents in 1999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CERT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53% of respondents rate overall state of infosecurity at their co. as average or below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 1999 Security Survey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47.8% increase in unauthorized access by outsiders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91 breaches resulting in $23M lo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think many people have a false sense of security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chael Vatis,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 of the FBI National Infrastructure Protection Center, on threat of cyberterroris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DUnive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Important is Thi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$1 trillion in revenue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isco Systems Inc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0M in internet users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rain Rauscher Wessel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On-line Shopping Revenue will top US $7B by 2000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rrester Resear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90% of all e-commerce is transacted by just 10% of the world’s e-commerce companies.</a:t>
            </a: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Risks do you fac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perty- loss/theft of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in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asse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-Business interruption lo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ability to others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dia- content related lia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resulting 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nancial damage, damage to reputation, stock drop, loss of important assets/opportunit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perty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s: Fire, windstorm etc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e Policies?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ed Criminals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usually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loyees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(“computer fraud” rider adds non-employe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siness Interruption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ee Property Polic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not in any standard corporate polic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ometimes found in certain K&amp;R or contaminated goods in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6:12:37Z</dcterms:created>
  <dc:creator>TSagalow</dc:creator>
  <dc:description/>
  <dc:language>en-US</dc:language>
  <cp:lastModifiedBy>User</cp:lastModifiedBy>
  <cp:lastPrinted>1999-10-22T16:29:03Z</cp:lastPrinted>
  <dcterms:modified xsi:type="dcterms:W3CDTF">2000-01-18T23:48:32Z</dcterms:modified>
  <cp:revision>26</cp:revision>
  <dc:subject/>
  <dc:title>No Slide Title</dc:title>
</cp:coreProperties>
</file>