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BE3E-7CDE-4860-92E1-652590D97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1680" y="4392360"/>
            <a:ext cx="5121000" cy="41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gen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999 i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nouncing RSA 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third annual RSA Security a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24200" cy="34686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1680" y="4392360"/>
            <a:ext cx="5121000" cy="41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gen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999 i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nouncing RSA 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third annual RSA Security a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84D0-772A-4AE4-AFB7-3F2CCA82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C8BF-BD66-4620-ABEE-304923C1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124D-BBC2-4313-96FA-2C1608B5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7418-FB2B-4BAA-AD0C-FC39EB06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120" y="22824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BC05-3064-44C8-BB4E-269F8241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37A5-5875-450B-8787-0F794536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2982-D94F-4FD8-992F-C091A4E3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F04E-8B67-40E2-AE97-A5BFA1DC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120" y="22824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C52F-4E0F-4386-B533-E1CB71E5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C1D8-0C18-47A9-9312-D9D1C60C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1392-6C86-4D0C-8DAE-C8038EE5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FCEF-BB74-4D6B-B711-F531B9C7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v3_bulle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2C53-D7EB-4919-8E0E-6D84DD510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v2_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514600" y="2057400"/>
            <a:ext cx="4059360" cy="30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og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3960" y="383760"/>
            <a:ext cx="8345160" cy="40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Partnerships that Define the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-Security Landscap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7640" y="2061720"/>
            <a:ext cx="4291200" cy="39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teams with Intel, Microsoft, Cisco, Novell and Lotus to strengthen e-Security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and BT sign globa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on reseller agre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and AIG Roll-out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-Business insurance alli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Capital accelerates growt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e-Busi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and McGraw-Hill launc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P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Agendab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343400" y="131436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10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a Flatow 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 &amp; Executive Produc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ce Friday - N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k Campagnoni 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Technology Office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 Information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 Denniger 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irman &amp; CEO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adview Associ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001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Coviello 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ident and CEO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5840" y="344520"/>
            <a:ext cx="7096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-Business in the New Millenn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SA Security</a:t>
            </a:r>
            <a:br>
              <a:rPr sz="2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ategy and Announce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0" y="549576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ott Schn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r. Vice President, RSA Security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41972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55627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Agendab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3695760" y="0"/>
            <a:ext cx="5448240" cy="6858000"/>
            <a:chOff x="3695760" y="0"/>
            <a:chExt cx="5448240" cy="6858000"/>
          </a:xfrm>
        </p:grpSpPr>
        <p:pic>
          <p:nvPicPr>
            <p:cNvPr id="95" name="Agendabg1" descr=""/>
            <p:cNvPicPr/>
            <p:nvPr/>
          </p:nvPicPr>
          <p:blipFill>
            <a:blip r:embed="rId2"/>
            <a:stretch/>
          </p:blipFill>
          <p:spPr>
            <a:xfrm>
              <a:off x="3695760" y="0"/>
              <a:ext cx="5448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962520" y="228600"/>
              <a:ext cx="5067360" cy="1143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gend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343400" y="190512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100000"/>
              </a:lnSpc>
              <a:spcBef>
                <a:spcPts val="1400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SA Security’s wireless road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400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sing the bar in P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400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industry partnershi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400"/>
              </a:spcBef>
              <a:buClr>
                <a:srgbClr val="f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ives toward industry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digitalasset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digitalassets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reless e-Busines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3760" y="1914120"/>
            <a:ext cx="380988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ed e-Business trans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1281240"/>
            <a:ext cx="3809880" cy="69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2971800"/>
            <a:ext cx="3809880" cy="104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e information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ellphone" descr=""/>
          <p:cNvPicPr/>
          <p:nvPr/>
        </p:nvPicPr>
        <p:blipFill>
          <a:blip r:embed="rId3"/>
          <a:stretch/>
        </p:blipFill>
        <p:spPr>
          <a:xfrm>
            <a:off x="523800" y="1533600"/>
            <a:ext cx="2092320" cy="1646280"/>
          </a:xfrm>
          <a:prstGeom prst="rect">
            <a:avLst/>
          </a:prstGeom>
          <a:ln w="0">
            <a:noFill/>
          </a:ln>
        </p:spPr>
      </p:pic>
      <p:pic>
        <p:nvPicPr>
          <p:cNvPr id="105" name="passport" descr=""/>
          <p:cNvPicPr/>
          <p:nvPr/>
        </p:nvPicPr>
        <p:blipFill>
          <a:blip r:embed="rId4"/>
          <a:stretch/>
        </p:blipFill>
        <p:spPr>
          <a:xfrm>
            <a:off x="2425680" y="3618000"/>
            <a:ext cx="2149560" cy="1463760"/>
          </a:xfrm>
          <a:prstGeom prst="rect">
            <a:avLst/>
          </a:prstGeom>
          <a:ln w="0">
            <a:noFill/>
          </a:ln>
        </p:spPr>
      </p:pic>
      <p:pic>
        <p:nvPicPr>
          <p:cNvPr id="106" name="receipt" descr=""/>
          <p:cNvPicPr/>
          <p:nvPr/>
        </p:nvPicPr>
        <p:blipFill>
          <a:blip r:embed="rId5"/>
          <a:stretch/>
        </p:blipFill>
        <p:spPr>
          <a:xfrm>
            <a:off x="522360" y="3621240"/>
            <a:ext cx="1474560" cy="2206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2120" y="1163520"/>
            <a:ext cx="8602920" cy="0"/>
          </a:xfrm>
          <a:prstGeom prst="line">
            <a:avLst/>
          </a:prstGeom>
          <a:ln w="3492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212400"/>
            <a:ext cx="7543800" cy="67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 Product Strategy </a:t>
            </a:r>
            <a:br>
              <a:rPr sz="3400"/>
            </a:b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Optimized for Wirel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2040" y="5052960"/>
            <a:ext cx="37148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suance and management of wireless and wired certificates for the enterpr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72040" y="3338640"/>
            <a:ext cx="376704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bedded authentication solutions and management systems for handheld and cellular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72040" y="1908000"/>
            <a:ext cx="407196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tocols and encryption engines for handheld and cellular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safe%20logo%20grey" descr=""/>
          <p:cNvPicPr/>
          <p:nvPr/>
        </p:nvPicPr>
        <p:blipFill>
          <a:blip r:embed="rId1"/>
          <a:stretch/>
        </p:blipFill>
        <p:spPr>
          <a:xfrm>
            <a:off x="561960" y="1925640"/>
            <a:ext cx="3817800" cy="973080"/>
          </a:xfrm>
          <a:prstGeom prst="rect">
            <a:avLst/>
          </a:prstGeom>
          <a:ln w="0">
            <a:noFill/>
          </a:ln>
        </p:spPr>
      </p:pic>
      <p:pic>
        <p:nvPicPr>
          <p:cNvPr id="113" name="securid%20logo%20grey" descr=""/>
          <p:cNvPicPr/>
          <p:nvPr/>
        </p:nvPicPr>
        <p:blipFill>
          <a:blip r:embed="rId2"/>
          <a:stretch/>
        </p:blipFill>
        <p:spPr>
          <a:xfrm>
            <a:off x="561960" y="3503520"/>
            <a:ext cx="4065480" cy="981000"/>
          </a:xfrm>
          <a:prstGeom prst="rect">
            <a:avLst/>
          </a:prstGeom>
          <a:ln w="0">
            <a:noFill/>
          </a:ln>
        </p:spPr>
      </p:pic>
      <p:pic>
        <p:nvPicPr>
          <p:cNvPr id="114" name="keon%20logo%20grey" descr=""/>
          <p:cNvPicPr/>
          <p:nvPr/>
        </p:nvPicPr>
        <p:blipFill>
          <a:blip r:embed="rId3"/>
          <a:stretch/>
        </p:blipFill>
        <p:spPr>
          <a:xfrm>
            <a:off x="561960" y="5057640"/>
            <a:ext cx="337968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u"/>
      </p:transition>
    </mc:Choice>
    <mc:Fallback>
      <p:transition spd="slow">
        <p:wipe dir="u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lla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120" y="5688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</a:t>
            </a:r>
            <a:br>
              <a:rPr sz="3400"/>
            </a:b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ioneering Wireless e-Secur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2662200"/>
            <a:ext cx="3809880" cy="31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P / WT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TLS certific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KCS #15 Crypto information 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tooth security la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81360" y="2619360"/>
            <a:ext cx="4191120" cy="340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b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k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ics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7640" y="1795320"/>
            <a:ext cx="3933720" cy="62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81360" y="1800360"/>
            <a:ext cx="4257720" cy="62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000"/>
                </a:solidFill>
                <a:latin typeface="Arial"/>
              </a:rPr>
              <a:t>Business partner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greekb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3960" y="338040"/>
            <a:ext cx="8497800" cy="59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ioneering Wireless e-Securit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7640" y="1816200"/>
            <a:ext cx="7489800" cy="47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SA Wireless Annou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47280" y="2538360"/>
            <a:ext cx="7567560" cy="37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wireless protocol software and too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BSAFE SSL-C 1.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A BSAFE WT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A Security teams with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iSign on wireless tools and manage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rtificate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icsson to secure wireless commun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6" name="endslide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14480" y="228600"/>
              <a:ext cx="8915400" cy="1143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" name="endslide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237960"/>
            <a:ext cx="7543800" cy="68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</a:t>
            </a:r>
            <a:br>
              <a:rPr sz="3400"/>
            </a:b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Raising the Bar in PK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1600" y="2776680"/>
            <a:ext cx="7381800" cy="331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ing the roadblocks to deployment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-world use, and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ivering PKI with strong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ing interoperability between Keon, applications, and other infrastructure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ing the tools to build the nex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tion of e-busines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7640" y="1708200"/>
            <a:ext cx="77392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celerating PKI deployment for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day’s e-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u"/>
      </p:transition>
    </mc:Choice>
    <mc:Fallback>
      <p:transition spd="slow">
        <p:wipe dir="u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greekbg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09120" y="2595240"/>
            <a:ext cx="7029720" cy="331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A Keon Certificate Server 5.5 – secure, automated certificate registration with OneSt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A Keon Standalone Desktop turns PCs into secure “Digital Vault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A BSAFE Cert-C allows developers to build secure PKI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A and ValiCert team on OCSP initi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237960"/>
            <a:ext cx="7543800" cy="68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</a:t>
            </a:r>
            <a:br>
              <a:rPr sz="3400"/>
            </a:b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Raising the Bar in PK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7640" y="1816200"/>
            <a:ext cx="7489800" cy="47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SA PKI Annou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u"/>
      </p:transition>
    </mc:Choice>
    <mc:Fallback>
      <p:transition spd="slow">
        <p:wipe dir="u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5T23:06:48Z</dcterms:created>
  <dc:creator>Rick Mack</dc:creator>
  <dc:description/>
  <dc:language>en-US</dc:language>
  <cp:lastModifiedBy>User</cp:lastModifiedBy>
  <cp:lastPrinted>2000-01-06T14:01:10Z</cp:lastPrinted>
  <dcterms:modified xsi:type="dcterms:W3CDTF">2000-01-17T20:12:49Z</dcterms:modified>
  <cp:revision>472</cp:revision>
  <dc:subject/>
  <dc:title>RSA Security</dc:title>
</cp:coreProperties>
</file>