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811-2BAB-4A0D-928D-3DDF0258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0AF-F00B-4812-ABE7-383BAC67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B62-DB59-41AA-A0BF-F71DE9FA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C24-929D-4B15-8286-040F9806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F04-C36C-474B-915D-93BF4643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35E-162B-4779-A1FF-528EB0A4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E77-666B-4E38-AEA9-A16EEB04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1BD-CC76-4C65-9E26-633D9E22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4E2-1985-4A90-89D0-BB4D4EE1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549-28FC-4C0C-879E-A85BCC2B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BFD0-785C-4C5C-B082-14076389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09D-E647-4253-86A2-A5CBAB9F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FC21-C0FD-494C-8D06-86FD5CBC3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 : RSA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ica Sta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7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SAES-OAEP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E-OAEP-Enco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SAE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yp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SAD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E-OAEP-Deco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unded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bitrary length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ME-OAEP-Encode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ction 9.1.1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output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G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ask gener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ength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encoding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length of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d message, EM (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, “message too long”, or “parameter string too lo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AES-OAEP-Encrypt calls thi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52480" y="838080"/>
          <a:ext cx="632484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838080"/>
                    <a:ext cx="63248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E-OAEP-En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uxiliary Functions (Section 10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functions, variable length input, fixed length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resistance important to deter forgery of v1.5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is recommended for EME-OA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2, MD5 and SHA-1 are recommended for all other encod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-61200"/>
            <a:ext cx="7086600" cy="6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99840" y="10666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k genera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variable length input and output string of any predetermined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2.0 defines an MGF based on a hash function, MG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is the recommended hash function for MG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GF1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ength of the mask (the 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 be the empty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0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 algn="just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n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ength 4 with the primitive I2OS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2OSP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 algn="just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Concatenate the hash of the s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the lea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te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the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N.1 for RSA-OAEP (Section 11.2.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ntax allows for increased functionality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ash functions, other types of MGF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D for the RSAES-OAEP encryption sche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RSAES-OAEP OBJECT IDENTIFIER ::= {pkcs-1 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eld associated with this OI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gorithm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all have 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AEP-OAEP-param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69608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AES-OAEP-params ::=  SEQUENC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Func [0] AlgorithmIdentifier{{oaepDigest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sha1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skGenFunc [1] AlgorithmIdentifier{{pkcs1MGF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mgf1SHA1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ourceFunc [2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gorithmIdentifier {{pkcs1pSource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pSpecifiedEmptyIdentifier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-23760"/>
            <a:ext cx="7086600" cy="6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-36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2.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octet string tha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explicitly, although the syntax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flex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kcs1pSourceAlgorithms ALGORITHM-IDENTIFIER ::= {{OCTET STRING IDENTIFIED BY id-pSpecified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ncoding parameters are specified explicitly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pSpecified OBJECT IDENTIFIER ::= {pkcs-1 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pSpecif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ll have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CT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taining the encoding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pecifiedEmptyIdentifier ::=AlgorithmIdentifier {id-pSpecified, OCTET STRING SIZE (0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defaults for all the fields in RSAES-OAEP-params are used then the AlgID has the val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SAES-OAEP-Default-Identifier ::= AlgorithmIdentifier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id-RSAES-OAEP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{sha1Identifi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mgf1SHA1Identifi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pSpecifiedEmptyIdentifier 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 on status of v2.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v2.0 cont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ical highlights of v2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ilities for 2.x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ilities for v2.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9840" y="1295280"/>
            <a:ext cx="7086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ture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able security (P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recovery (PSS-R, ISO/IEC 97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options (X9.31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gener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valid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O/IEC 9796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national standard for signatures with messag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nvolves padding, extending and adding redundancy to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rovably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X9.31 rDS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sh based encoding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header || padding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|| tr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notes the signature op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generation metho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 generation methods from ANSI draft X9.79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me Number Generation and Validation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eving procedu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lity tests (probabilistic/deterministic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validation methods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an area of researc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ossibiliti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for show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duct of two pr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of Liskov and Silverman for showing that the two factor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nearly eq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us of v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.0 was posted for 30-day review on 7/14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.0 was submitted as an Internet-Draft to the IETF on 8/6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ew comments were received…and the final document was posted on 9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view of v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EP-based encryption (Bellare-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1.5 encryption, for backward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1.5 signature scheme with a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OIDs for the OAEP-based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echnical Highligh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SAES-OA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xiliary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yle and terminology of v2.0 is similar to IEEE P1363: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 and de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ture and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and signature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ncryption and signatures w/ 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xiliar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mathematical oper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s are used i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 RSAEP(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between 0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, output “message representative out of range” and s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Outp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primitives and other techniques (e.g. encoding methods) to achieve a particular security go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SAES-OAEP (Section 7.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the random oracle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y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ie security to the RS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ext-a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” generate valid ciphertext w/o the plai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sen-ciphertext attacks are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Jessica Staddon</cp:lastModifiedBy>
  <dcterms:modified xsi:type="dcterms:W3CDTF">1998-10-07T03:17:20Z</dcterms:modified>
  <cp:revision>93</cp:revision>
  <dc:subject/>
  <dc:title>Emerging Standards for Public-Key Cryptography</dc:title>
</cp:coreProperties>
</file>