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6A23-4C47-4D14-B5B4-713FBF42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44CC-A90E-4448-A0D5-F3092B3A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D87C-CFC8-4C5E-AB0E-055C44EBB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BA5C-D7A3-456F-8CF2-214B0035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6B3C-02F9-4A17-88D8-AFA8BC24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0E87-02A4-4FA7-9385-D923042A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B7F7-1D89-41B7-B614-5B72A820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8BDE-FB6A-4840-ACD6-60E78BBEE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9D51-FDF5-4E8D-9DC5-84572598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4653-BD15-47BA-89D7-C9C7DCC9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B446-EE16-4BBB-B8A2-2BB1985B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2062-B187-4481-9333-AF77F578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RSA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8107-318E-48A0-AFC2-6A1188BDF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96160" y="6111720"/>
            <a:ext cx="1284480" cy="682920"/>
          </a:xfrm>
          <a:prstGeom prst="rect">
            <a:avLst/>
          </a:prstGeom>
          <a:ln w="0">
            <a:noFill/>
          </a:ln>
        </p:spPr>
      </p:pic>
      <p:pic>
        <p:nvPicPr>
          <p:cNvPr id="6" name="keys" descr=""/>
          <p:cNvPicPr/>
          <p:nvPr/>
        </p:nvPicPr>
        <p:blipFill>
          <a:blip r:embed="rId3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1828800"/>
            <a:ext cx="8229600" cy="304920"/>
          </a:xfrm>
          <a:prstGeom prst="rect">
            <a:avLst/>
          </a:prstGeom>
          <a:solidFill>
            <a:srgbClr val="e48800"/>
          </a:solidFill>
          <a:ln w="0">
            <a:noFill/>
          </a:ln>
          <a:effectLst>
            <a:outerShdw dist="17819" dir="2700000" blurRad="0" rotWithShape="0">
              <a:srgbClr val="885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447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A Data Security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keys" descr=""/>
          <p:cNvPicPr/>
          <p:nvPr/>
        </p:nvPicPr>
        <p:blipFill>
          <a:blip r:embed="rId2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13: Elliptic Curve Cryptography Standar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rt Kalis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Labor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KCS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7,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P Consideration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C in general is not patented, but specific choices may be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QV key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 compression (app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validation (app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d profile is intended to be unencumbered, though some implementation techniques may be pat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 choices appropri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 profile too gener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would fewer choice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t necessar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b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EEE P1363 Profile for PKCS Applic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ould be a better tit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plan and sched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liptic curve cryptography is emerging as a new public-key 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standardization underw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I X9.62,.63, IEEE P1363, ISO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CS #13: a profile of existing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us: in preparation, this is a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ECC: Primary Choic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finit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ptographic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 re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Finite Field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d characteristic: GF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GF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e.g.,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characteristic: GF(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field represent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generally faster (esp. in hardware), odd leverages existing modular arithmetic implemen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Key Agreement Schem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e-Hell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fied” Diffie-Hell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Q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H basic, “unified” more flexible, MQV more efficient for joint static/ephem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1363, X9.63 draft have all th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ignature Schem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yberg-Ruepp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nor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SA “standard,” NR allows message recovery, Schnorr more “provabl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1363 has first two, X9.62 has D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Encryption Schem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gamal (= DH + multipli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/MIME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heng-Seberry, Bellare-Rogaway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gamal basic, S/MIME enhanced, ZS and BR “provable”, more flex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S, BR submitted to P1363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 in X9.63 d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int Represent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ompressed: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mpressed: only one bi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mpacted: one less bit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ly (with algorithm chan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ze, processing tradeof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1363 supports uncompressed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om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Profil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F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GF(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with ration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DH, ECDSA, P1363a E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ompressed, with P1363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 parameter and key generation, validation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Burt Kaliski</dc:creator>
  <dc:description/>
  <dc:language>en-US</dc:language>
  <cp:lastModifiedBy>Burt Kaliski</cp:lastModifiedBy>
  <cp:lastPrinted>1998-08-07T15:04:05Z</cp:lastPrinted>
  <dcterms:modified xsi:type="dcterms:W3CDTF">1998-10-05T17:10:35Z</dcterms:modified>
  <cp:revision>178</cp:revision>
  <dc:subject/>
  <dc:title>PKCS #13: Elliptic Curve Cryptography Standard</dc:title>
</cp:coreProperties>
</file>