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A709-E51A-46CF-ACCC-7697740E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9B8C-8379-4CDA-9DD3-746CD899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03CC-62FC-44C0-B770-01B5671B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9810-E37E-4C8B-99A2-05E373FF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F866-C8B3-494D-AEAC-B637599E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9CDF-03B6-40F9-A875-3E9B0FC3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F00-8E98-485A-864D-B856AAF7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FCF6-7017-40A8-81FB-41B06BCE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EFF-366C-4454-AD04-603E29F5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A3C1-ADE2-4836-8DFE-5FECC5D7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662-2B92-4E80-BF0A-FF666740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584E-7F00-48CE-B539-F41B33FF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6F45-717B-4077-84A7-82B03802E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#15 - 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n ICC File Format Recommend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us Nyströ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ard layo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98108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335268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F(PKCS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57200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D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457200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4572000"/>
            <a:ext cx="838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r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335268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D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952520" y="25909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25909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85840" y="39625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9625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388620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4572000"/>
            <a:ext cx="838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ken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742840" y="380988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914400" y="1905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25909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37339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56386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4648320"/>
            <a:ext cx="8380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572000"/>
            <a:ext cx="838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inIn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4038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4724280" y="4952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he TokenInfo fi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information about the tok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its capabilities (and peculiarit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s roughly to PKCS#11 CK_TOKEN_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16765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DF - Object Directory Fil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to all objects on the 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attributes (or pointers to their attribu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16002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in Information Fi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needs to kn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PIN is case-sen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given PIN needs to be ‘padde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everal PINs, there is a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ssociate PINs with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know if a PIN is local or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16765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 Object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values for one or more token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contain their other attribute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not be in same DF as O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16765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#1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rue card interoperability between card-awar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profiling for particular uses, like Electronic Identity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PKCS#11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entatively targeted for v1.0 in             Q1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000000"/>
                </a:solidFill>
                <a:latin typeface="Times New Roman"/>
              </a:rPr>
              <a:t>PKCS#15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Part III: Issues and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ssues (in no particular order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recognize supported algorithm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recognize supported command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# of PINs? PKCS#11 only supports o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coding of data: ASN.1/[PD]er or XDR or other (or several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ssues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lationship to other initiatives (MultOS, PC/SC (CAPI), JavaCard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 for pure memory card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pecific card implementation detail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 certificates on the car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ral ODFs (keys, certs, etc) or none (implicit searching via File Identifiers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How to proceed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 a separate mailing list, e.g.      pkcs-15@rs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is to reach a ‘final’ version during Q1 ‘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, feedback is solicited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16765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,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posal - an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s from the SEIS work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s Nilsson, AU Systems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s from DC/SC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tt Guthery, Micro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n Alternative: Formal profili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- Information object clas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-PROFILE ::= CLASS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id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BJECT IDENTIFIER UNIQUE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Ty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WITH SYNTAX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Type IDENTIFIED BY &amp;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ROFILE-PARAMETERS ::= CLASS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privKeyLength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EGER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noPrivateKeys INTEGER,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WITH SYNTAX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DATA OBJECTS ARE &amp;noDataObje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PRIVATE KEYS IS &amp;noPrivateKe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PRIVATE KEY LENGTH SHALL BE &amp;privKeyL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OBJECT IDENTIFIER IS &amp;o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: Formal profiling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generic-pkcs15-profile { PKCS15-PARAMETERS : params } PKCS15-PROFILE ::=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F { params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DENTIFIED BY { params.&amp;oid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eid-params PROFILE-PARAMETERS ::=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DATA OBJECTS IS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PRIVATE KEYS IS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PRIVATE KEY LENGTH SHALL BE 102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OBJECT IDENTIFIER IS { eid-oid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eid-profile PKCS15-PROFILE ::=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generic-pkcs15-profile { eid-params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: Formal Profiling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FContents {PKCS15-PARAMETERS params} ::= SEQUENCE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version INTEGER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rivateKeys     PrivateKeys {params}(SIZE(&amp;params.noPrivKeys)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ublicKeys      PublicKey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ecretKeys      SecretKey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ertificates    Certificate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dataObjects     DataObject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PrivateKey {PKCS15-PARAMETERS : params }::= SEQUENCE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key                          INSTANCE OF PKCS15-KEY {params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CommonObjectAttributes PKCS15CommonObjectAttributes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CommonKeyAttributes    PKCS15CommonKeyAttributes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CommonPrivateKeyAttributes PKCS15CommonPrivateKeyAttribu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: Formal Profiling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PrivateRSAKey {PKCS15-PARAMETERS : params }::= SEQUENCE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modulusLength   INTEGER { params.&amp;privKeyLength 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ubjKeyHash     OCTET STRING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ath            [1] IMPLICIT PKCS15Path OPTIONAL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value           [2] IMPLICIT PKCS15RSAPrivateKey OPT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(WITH COMPONENTS {..., path PRESENT, value ABSENT} |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WITH COMPONENTS {..., path ABSENT, value PRESENT}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s to ASN.1: SSL no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num { xx_rsa_private_key(1), xx_ec_key(2), xx_certificate(3)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x_secret_key(4) , (255) } XXObjectTyp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RSAPrivate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EC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Certificat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s to ASN.1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Secret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XObjectType typ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rsa_private_key: XXRSAPrivate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ec_key: XXEC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certificate: XXCertificat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secret_key: XXSecret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Objec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XObject objects&lt;0..2^16-1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WholeStuff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‘card format’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tailed description on how certain higher-level abstractions such as keys and certificates is represented on a particular card in terms of files, directory structure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an also contain recommendations about commands to use and access control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any standardized forma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has laid out the foundations in ISO 7816-4, defining file types and commands for accessing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generally recognized standard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card issuers have implemented their own formats, bound to their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tandardized APIs aimed towards tokens like smart c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since there is no standard smart card format, users can’t receive full benefit from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mon card file format recommendation offers interoperability benefit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30960" y="2971800"/>
            <a:ext cx="37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sers (Card Hold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14040" y="3495600"/>
            <a:ext cx="25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ard Issu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9160" y="396252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pplication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67400" y="4638600"/>
            <a:ext cx="576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goal of PKCS#15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CC File Format Recommen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000000"/>
                </a:solidFill>
                <a:latin typeface="Times New Roman"/>
              </a:rPr>
              <a:t>PKCS#15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Part II: An Overview of the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rmat Characteristics and Requiremen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on both crypto-capable cards as well as stored-value c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multiple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whole domain of PKCS#11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rmat Characteristics and Requirements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forward to do PKCS#11 interface, but not tied to PKCS#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ling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, and an application of,       ISO 78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SDTI</cp:lastModifiedBy>
  <dcterms:modified xsi:type="dcterms:W3CDTF">1998-10-13T17:15:29Z</dcterms:modified>
  <cp:revision>96</cp:revision>
  <dc:subject/>
  <dc:title>Emerging Standards for Public-Key Cryptography</dc:title>
</cp:coreProperties>
</file>