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8C6-1D42-4DD9-AC62-C5B9CC8E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62B-73B9-472D-BB4B-881538E3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AA0-D65F-4527-9DB4-7381F2F6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BB7-F752-484B-ABB0-69A2C3BB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4AE-E94A-45DA-A9E9-53F5E5AF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B8C-A59B-4C2D-A23B-8700EEE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063-1120-4897-92C6-45A367EF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8EB-5CCF-4573-B6B0-32A2C9A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203-FDAD-4CC7-B759-9B6462AF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4D2F-2B20-4B08-BBEE-D9DB51E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6CA-AD01-4286-95E8-6793DBFB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EDF-9906-42C7-9D2B-86DCCB2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3166-3E4A-42A1-9422-69E9033C9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4320" y="90360"/>
            <a:ext cx="1455480" cy="51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e EID card, many appl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signatures, e.g. for non-repud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dentiality through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53000" y="3981600"/>
            <a:ext cx="1563480" cy="103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086600" y="4079880"/>
          <a:ext cx="622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40798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10280" y="4249800"/>
          <a:ext cx="622440" cy="63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10280" y="424980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858000" y="4402080"/>
          <a:ext cx="62244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0" y="4402080"/>
                    <a:ext cx="622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62560" y="4002120"/>
            <a:ext cx="443160" cy="722520"/>
            <a:chOff x="6262560" y="4002120"/>
            <a:chExt cx="443160" cy="722520"/>
          </a:xfrm>
        </p:grpSpPr>
        <p:graphicFrame>
          <p:nvGraphicFramePr>
            <p:cNvPr id="52" name=""/>
            <p:cNvGraphicFramePr/>
            <p:nvPr/>
          </p:nvGraphicFramePr>
          <p:xfrm>
            <a:off x="6292800" y="4002120"/>
            <a:ext cx="366840" cy="693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292800" y="400212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6262560" y="4084560"/>
              <a:ext cx="443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038480" y="2286000"/>
            <a:ext cx="61452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2438280" y="2446200"/>
            <a:ext cx="809640" cy="538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62120" y="2405160"/>
            <a:ext cx="927000" cy="65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648400" y="2286000"/>
            <a:ext cx="668160" cy="7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7238880" y="2362320"/>
            <a:ext cx="567000" cy="6984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791320" y="4383000"/>
            <a:ext cx="442800" cy="722880"/>
            <a:chOff x="5791320" y="4383000"/>
            <a:chExt cx="442800" cy="722880"/>
          </a:xfrm>
        </p:grpSpPr>
        <p:graphicFrame>
          <p:nvGraphicFramePr>
            <p:cNvPr id="61" name=""/>
            <p:cNvGraphicFramePr/>
            <p:nvPr/>
          </p:nvGraphicFramePr>
          <p:xfrm>
            <a:off x="5821200" y="4383000"/>
            <a:ext cx="366840" cy="693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821200" y="4383000"/>
                      <a:ext cx="36684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5791320" y="44658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005520" y="4154400"/>
            <a:ext cx="442800" cy="722880"/>
            <a:chOff x="6005520" y="4154400"/>
            <a:chExt cx="442800" cy="722880"/>
          </a:xfrm>
        </p:grpSpPr>
        <p:graphicFrame>
          <p:nvGraphicFramePr>
            <p:cNvPr id="65" name=""/>
            <p:cNvGraphicFramePr/>
            <p:nvPr/>
          </p:nvGraphicFramePr>
          <p:xfrm>
            <a:off x="6035760" y="4154400"/>
            <a:ext cx="366480" cy="6937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035760" y="4154400"/>
                      <a:ext cx="366480" cy="69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05520" y="4237200"/>
              <a:ext cx="4428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priv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3480" y="1793880"/>
            <a:ext cx="739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anking   e-commerce   at work       health care     b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7080" y="3125880"/>
            <a:ext cx="2055600" cy="760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3240" y="3125880"/>
            <a:ext cx="989280" cy="68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32781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30280" y="3125880"/>
            <a:ext cx="76068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64160" y="3278160"/>
            <a:ext cx="175104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smart card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storage for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uplication of private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s ”know” and ”possess”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carry complex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able for the u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68840" y="2673360"/>
            <a:ext cx="2121120" cy="2044800"/>
          </a:xfrm>
          <a:prstGeom prst="rect">
            <a:avLst/>
          </a:prstGeom>
          <a:solidFill>
            <a:srgbClr val="beff9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92640" y="4952880"/>
          <a:ext cx="10731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2640" y="4952880"/>
                    <a:ext cx="107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673360" y="5645160"/>
            <a:ext cx="2120760" cy="825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431120" y="5114880"/>
          <a:ext cx="1255680" cy="75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1120" y="5114880"/>
                    <a:ext cx="12556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568840" y="5645160"/>
            <a:ext cx="2121120" cy="825480"/>
          </a:xfrm>
          <a:prstGeom prst="rect">
            <a:avLst/>
          </a:prstGeom>
          <a:solidFill>
            <a:srgbClr val="8efb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080" y="2719440"/>
            <a:ext cx="27590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ng th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u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propert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74000" y="2117880"/>
            <a:ext cx="110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4480" y="2193840"/>
            <a:ext cx="147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3360" y="2673360"/>
            <a:ext cx="2120760" cy="2044800"/>
          </a:xfrm>
          <a:prstGeom prst="rect">
            <a:avLst/>
          </a:prstGeom>
          <a:solidFill>
            <a:srgbClr val="c9e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104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 pri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d iss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 or nat.stand.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to,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ce + ability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rite correct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46880" y="2719440"/>
            <a:ext cx="2301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, SSN, (Coun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e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 privat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71480" y="5005440"/>
            <a:ext cx="233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320" y="5005440"/>
            <a:ext cx="187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onic ID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26240" y="1638360"/>
          <a:ext cx="1503360" cy="102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6240" y="1638360"/>
                    <a:ext cx="1503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621240" y="1828800"/>
          <a:ext cx="12556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21240" y="1828800"/>
                    <a:ext cx="1255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48769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6320" y="91440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8960" y="914400"/>
            <a:ext cx="2221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45720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EIS Specific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1: The Electronic ID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 file structure and 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3: EID Certificate Cont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PKIX-1 and S/MIME certificate specific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4: EID Implementation pro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number of keys, key length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1T17:16:21Z</dcterms:created>
  <dc:creator>Hans Nilsson</dc:creator>
  <dc:description/>
  <dc:language>en-US</dc:language>
  <cp:lastModifiedBy>Hans Nilsson</cp:lastModifiedBy>
  <dcterms:modified xsi:type="dcterms:W3CDTF">1998-06-23T06:01:23Z</dcterms:modified>
  <cp:revision>10</cp:revision>
  <dc:subject/>
  <dc:title>One EID card, many applications</dc:title>
</cp:coreProperties>
</file>