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header-slide-wholepag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1500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2" marL="113976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717560" indent="-228600">
              <a:spcBef>
                <a:spcPts val="1500"/>
              </a:spcBef>
              <a:buClr>
                <a:srgbClr val="ffbe7d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4" marL="2060640" indent="-228600">
              <a:spcBef>
                <a:spcPts val="1500"/>
              </a:spcBef>
              <a:buClr>
                <a:srgbClr val="ffbe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5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6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" name="RSALabs_logo" descr=""/>
          <p:cNvPicPr/>
          <p:nvPr/>
        </p:nvPicPr>
        <p:blipFill>
          <a:blip r:embed="rId3"/>
          <a:stretch/>
        </p:blipFill>
        <p:spPr>
          <a:xfrm>
            <a:off x="228600" y="5694480"/>
            <a:ext cx="1295280" cy="78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header-title-wholepage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2" name="RSALabs_logo" descr=""/>
          <p:cNvPicPr/>
          <p:nvPr/>
        </p:nvPicPr>
        <p:blipFill>
          <a:blip r:embed="rId3"/>
          <a:stretch/>
        </p:blipFill>
        <p:spPr>
          <a:xfrm>
            <a:off x="152280" y="5724360"/>
            <a:ext cx="1371600" cy="828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1120" indent="0" algn="ct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824040" indent="85680" algn="ctr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3" marL="1235160" indent="253800" algn="ctr">
              <a:spcBef>
                <a:spcPts val="1650"/>
              </a:spcBef>
              <a:buClr>
                <a:srgbClr val="ffbe7d"/>
              </a:buClr>
              <a:buFont typeface="Arial"/>
              <a:buChar char="–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4" marL="1646280" indent="185760" algn="ctr">
              <a:spcBef>
                <a:spcPts val="1650"/>
              </a:spcBef>
              <a:buClr>
                <a:srgbClr val="ffbe7d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5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6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PKCS #9 v2.0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gnus Nyströ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SA Laborato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KCS Workshop, 19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naturalPerson object cla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5f5f5f"/>
              </a:buClr>
              <a:buFont typeface="Courier Ne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urier New"/>
              </a:rPr>
              <a:t>naturalPerson OBJECT-CLASS ::= {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d5981"/>
                </a:solidFill>
                <a:latin typeface="Courier New"/>
              </a:rPr>
              <a:t>SUBCLASS OF {top}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d5981"/>
                </a:solidFill>
                <a:latin typeface="Courier New"/>
              </a:rPr>
              <a:t>KIND auxiliary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d5981"/>
                </a:solidFill>
                <a:latin typeface="Courier New"/>
              </a:rPr>
              <a:t>MAY CONTAIN {NaturalPersonAttributeSet}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d5981"/>
                </a:solidFill>
                <a:latin typeface="Courier New"/>
              </a:rPr>
              <a:t>ID pkcs-9-oc-naturalPers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d5981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NaturalPersonAttributeSe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5f5f5f"/>
              </a:buClr>
              <a:buFont typeface="Courier Ne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urier New"/>
              </a:rPr>
              <a:t>NaturalPersonAttributeSet ATTRIBUTE ::= {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Courier New"/>
              </a:rPr>
              <a:t>emailAddress | unstructuredName | unstructuredAddress | pseudonym | dateOfBirth | placeOfBirth | gender | countryOfCitizenship | countryOfResidence, …}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pseudonym attribu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Useful attribute in distinguished names for anonymous (at least in some sense) certificat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ntended to be used in IETF’s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qualified certificat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ulti-valued (?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dateOfBirth attribu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pecifies the date of birth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ntended to be used in IETF’s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qualified certificates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ngle-valued...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placeOfBirth attribu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irectoryString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ntended to be used in IETF’s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qualified certificat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ngle-valued...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gender attribu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rintable string (‘M’ or ‘F’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ntended to be used in IETF’s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qualified certificat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ngle-value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countryOfCitizenship and countryOfResidence attribut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rintable strings (ISO 3166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ntended to be used in IETF’s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qualified certificat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ulti-value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ther new attribut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randomNonce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: For use in conjunction with signatures to prevent replay attacks. Especially when no signingTime is available.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sequenceNumber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: For the same use. Similar to numbering your checks.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dified (extended) old attribut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unstructuredName, unstructuredAddress, challengePassword, signingDescription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: Syntax now extended to allow internationalization (implementations SHOULD use old syntax if possible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signingTime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: updated to be in accordance with S/MIM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ime schedu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f you have any comments - please give them on or before October 25th.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Expect third draft early in November, for a short (2 w) review period (unless major changes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v2.0 to be published in late November /early December 1999.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Historically, PKCS #9 has specified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selected attribut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y have been used in PKCS #6, PKCS #7 and PKCS #10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ith increasing popularity for LDAP-accessible directories, more attributes (and a supporting object class) were neede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ments &amp; Sugges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lease send comments to 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kcs-tng@rsasecurity.com or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kcs-editor@rsasecurity.com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verview of differences from v1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wo new (auxiliary) object classe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kcsEntity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naturalPers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ew attributes for use with these classes (e.g. “pseudonym”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ome other new attribute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Random nonc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quence number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verview of differences, cont.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ome older attributes have been updated (DirectoryString, internationalization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ompilable” ASN.1 module include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ollected undocumented OIDs and attributes defined elsewher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BNF Schema summary included for easier integration in LDAP servic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pkcsEntity object cla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5f5f5f"/>
              </a:buClr>
              <a:buFont typeface="Courier Ne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urier New"/>
              </a:rPr>
              <a:t>pkcsEntity OBJECT-CLASS ::= {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d5981"/>
                </a:solidFill>
                <a:latin typeface="Courier New"/>
              </a:rPr>
              <a:t>SUBCLASS OF {top}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d5981"/>
                </a:solidFill>
                <a:latin typeface="Courier New"/>
              </a:rPr>
              <a:t>KIND auxiliary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d5981"/>
                </a:solidFill>
                <a:latin typeface="Courier New"/>
              </a:rPr>
              <a:t>MAY CONTAIN {PKCS9AttributeSet}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d5981"/>
                </a:solidFill>
                <a:latin typeface="Courier New"/>
              </a:rPr>
              <a:t>ID pkcs-9-oc-pkcsEntity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d5981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PKCS9AttributeSe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5f5f5f"/>
              </a:buClr>
              <a:buFont typeface="Courier Ne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urier New"/>
              </a:rPr>
              <a:t>PKCS9AttributeSet ATTRIBUTE ::= {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Courier New"/>
              </a:rPr>
              <a:t>userPKCS12 | pKCS15Token |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Courier New"/>
              </a:rPr>
              <a:t>encryptedPrivateKeyInfo, …}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userPKCS12Attribu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ntended to store PKCS #12 PFX PDUs in directori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ulti-value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pKCS15Token attribu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ntended for storage of PKCS #15 soft-tokens in directories (once such tokens are defined in PKCS #15…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ulti-value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encryptedPrivateKeyInfo attribu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ntended for storage of simple encrypted private keys in directori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ote: No (explicit) integrity check!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ulti-value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51:08Z</dcterms:created>
  <dc:creator>Magnus Nystrom</dc:creator>
  <dc:description/>
  <dc:language>en-US</dc:language>
  <cp:lastModifiedBy>Magnus Nystrom</cp:lastModifiedBy>
  <cp:lastPrinted>1999-07-27T16:32:36Z</cp:lastPrinted>
  <dcterms:modified xsi:type="dcterms:W3CDTF">1999-09-28T07:52:58Z</dcterms:modified>
  <cp:revision>1</cp:revision>
  <dc:subject/>
  <dc:title>PKCS #9 v2.0</dc:title>
</cp:coreProperties>
</file>