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6858000"/>
  <p:notesSz cx="67278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50760" y="786960"/>
            <a:ext cx="7963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1280" y="679320"/>
            <a:ext cx="864216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10560" y="6464160"/>
            <a:ext cx="1495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runo Struif, GMD-T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76360" y="6515280"/>
            <a:ext cx="71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A0DE342-CA90-4917-8C55-CC8383E7BC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33520"/>
            <a:ext cx="152244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martCard-Tech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8763120" y="380880"/>
            <a:ext cx="753840" cy="838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59080" y="3886200"/>
            <a:ext cx="701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828800"/>
            <a:ext cx="8409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rman Digital Signature Card and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fice Identity Car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n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KCS #15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7560" y="4114800"/>
            <a:ext cx="707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runo Stru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rman National Research Center for 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armsta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User Authentic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escribes PINs and passwords, but no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he German Digital Signature law allows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t is technically already feasible to implement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feature matching algorithms in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SO/IEC will add an amendment to 7816-4 with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spect to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VERIFY Command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057400"/>
            <a:ext cx="754380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90920" y="2209680"/>
          <a:ext cx="6072120" cy="21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09680"/>
                    <a:ext cx="60721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386000" y="4572000"/>
            <a:ext cx="617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rivate PC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is presented as plai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ublic customer service terminal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shall be presented as cryptogram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followed by a cryptographic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1981080"/>
            <a:ext cx="708660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6520" y="2057400"/>
            <a:ext cx="671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Authentication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in    PKCS15AuthenticationObject { PKCSPin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   PKCS15AuthenticationObject { PKCSBio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Attributes  ::=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Flags            PKCS15BioFlag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Subject         PKCS15BioSubjec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Type             PKCS15BioType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Reference     [0] PKCSReference DEFAULT 0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astBioChange   GeneralizedTime 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path                    PKCS15Path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 -- For future extensions 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1905120"/>
            <a:ext cx="5715000" cy="4343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56920" y="1981080"/>
            <a:ext cx="4214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Flags  ::= BIT STRING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ocal                     (1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change-disabled   (2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unblock-disabled (3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nitialized             (4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5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6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7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disable-allowed     (8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authentic               (9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enciphered           (1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133720"/>
            <a:ext cx="6705720" cy="396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9000" y="2133720"/>
            <a:ext cx="570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BioSubject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ingerPrint                [0] Finger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voicePrint                  [1] Voi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risPrint                     [2] Iris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acePrint                    [3] Fa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tinaPrint                 [4] Retina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handGeometry          [5] HandGeometry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writeDynamics          [6] Writ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keystrokeDynamics  [7] Keystrok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ipDynamics              [8] Lip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-- For future extens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2057400"/>
            <a:ext cx="7391160" cy="3962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2880" y="2438280"/>
            <a:ext cx="6674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Print ::= 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handID      HandID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fingerID    Finger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ndID ::= ENUMERATED {righthand (0), lefthand (1)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ID ::= ENUMRATED { thumb(0), pointer finger (1)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iddle finger (2), ring finger (3), little finger (4)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ccess to objec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1752480"/>
            <a:ext cx="746784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2209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63760" y="2438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ublic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3352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24160" y="3581280"/>
            <a:ext cx="149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ivat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4495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68000" y="47242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ntity Object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25146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6320" y="23144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ccess is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3733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15920" y="2895480"/>
            <a:ext cx="194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bject has 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e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(PIN, passwor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metr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4876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5920" y="4648320"/>
            <a:ext cx="236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s to be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Management of Access Righ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600200"/>
            <a:ext cx="7924680" cy="4724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2286000"/>
            <a:ext cx="1600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560" y="1828800"/>
            <a:ext cx="175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lementary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124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87160" y="2057400"/>
            <a:ext cx="455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or ´x.02´ and User A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and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 = Prefix denoting the AID or th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ssigning the rol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4876920"/>
            <a:ext cx="359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Access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Securit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Cert. Holder Autho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(Prefix, Role 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M = Secure 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Hashin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1752480"/>
            <a:ext cx="58672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048120" y="2286000"/>
          <a:ext cx="4429080" cy="32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442908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600200" y="1752480"/>
            <a:ext cx="65530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66520" y="2057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istinguish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Attribute 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pki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pgp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wtls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9-68Certificates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ut no cvCertificat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1828800"/>
            <a:ext cx="5410440" cy="3352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neral Configur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2514600"/>
            <a:ext cx="19047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581280"/>
            <a:ext cx="914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8560" y="297180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1480" y="20574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943600" y="2666880"/>
            <a:ext cx="990720" cy="609480"/>
            <a:chOff x="5943600" y="2666880"/>
            <a:chExt cx="990720" cy="609480"/>
          </a:xfrm>
        </p:grpSpPr>
        <p:sp>
          <p:nvSpPr>
            <p:cNvPr id="54" name=""/>
            <p:cNvSpPr/>
            <p:nvPr/>
          </p:nvSpPr>
          <p:spPr>
            <a:xfrm>
              <a:off x="5943600" y="266688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6240" y="281916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49600" y="281916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943600" y="3505320"/>
            <a:ext cx="990360" cy="609480"/>
            <a:chOff x="5943600" y="3505320"/>
            <a:chExt cx="990360" cy="609480"/>
          </a:xfrm>
        </p:grpSpPr>
        <p:sp>
          <p:nvSpPr>
            <p:cNvPr id="58" name=""/>
            <p:cNvSpPr/>
            <p:nvPr/>
          </p:nvSpPr>
          <p:spPr>
            <a:xfrm>
              <a:off x="5943600" y="3505320"/>
              <a:ext cx="99036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5880" y="3657600"/>
              <a:ext cx="152280" cy="15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9240" y="36576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943600" y="4343400"/>
            <a:ext cx="990720" cy="609480"/>
            <a:chOff x="5943600" y="4343400"/>
            <a:chExt cx="990720" cy="609480"/>
          </a:xfrm>
        </p:grpSpPr>
        <p:sp>
          <p:nvSpPr>
            <p:cNvPr id="62" name=""/>
            <p:cNvSpPr/>
            <p:nvPr/>
          </p:nvSpPr>
          <p:spPr>
            <a:xfrm>
              <a:off x="5943600" y="434340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5880" y="449568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49600" y="449568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62320" y="2895480"/>
            <a:ext cx="15238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30440" y="3024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7339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8680" y="342900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KCS#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43720" y="1981080"/>
            <a:ext cx="149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ifferent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with PKCS#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34640" y="2957400"/>
            <a:ext cx="1756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ovid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ame servi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ut possi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a different 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9840" y="5334120"/>
            <a:ext cx="81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knows to deal with a card application, no directory files are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does not know how to deal with a card application, it needs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Verifiable 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1447920"/>
            <a:ext cx="7467840" cy="4800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1676520"/>
            <a:ext cx="693396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I      CAR        CHR      CHA      OID        PK       SIG.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0574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9718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9625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8006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5627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32448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1360" y="2514600"/>
            <a:ext cx="709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PI = Certificate Profile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AR = Certification Authority Reference (Authority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R = Certificate Holder Reference (Subject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A = Certificate Holder Authorisation (Authority || Role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OID  = Object Identifier of PK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PK = Public Key of Certificate 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SIG.CA = Signature of Certificate Issuing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71600" y="1752480"/>
            <a:ext cx="7327800" cy="4178520"/>
          </a:xfrm>
          <a:prstGeom prst="rect">
            <a:avLst/>
          </a:prstGeom>
          <a:solidFill>
            <a:srgbClr val="eaec5e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96520" y="1828800"/>
            <a:ext cx="672084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Template tags for all securi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e.g. user authentication service, digital signature servi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tity authentication service, key cipherment servi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Instruction set mapping ISM (regular comm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ommand to perform (if command is different form that in I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Object Id of the 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Algorithm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file id (some cards select the key file containing the key to be us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file id (if present then the file contains the certificat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reference (used e.g. if the certificate is not stored in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qualifier (e.g. X.509 certificate,  ICC certific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PIN usage policy (present if the security service is PIN protec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3120" y="914400"/>
            <a:ext cx="4905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</a:t>
            </a:r>
            <a:r>
              <a:rPr b="1" lang="de-DE" sz="1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Descri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 Descriptor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supported algorithms, DSI schemas,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user authentica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where to find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implementation 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upport of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5240" y="1890720"/>
            <a:ext cx="723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For each security service provided by the card exists one or more SSD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nside an SSS template is one DO mandatory: the DO „command to perform“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VERIFY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CHANGE RD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usage option is present, e.g. old PIN required/not required in the comman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47080" y="2514600"/>
            <a:ext cx="642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Use e.g. for digital signature functio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MANAGE SECURITY ENVIRONMEN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to perform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HASH command, if needed,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PERFORM SECURITY OPERATION comma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is presented for the digital signature compu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- Different methods for Dig. Sig. Input construct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can be denoted by the DO OID or the DO Alg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E.g. PKCS#1 or ISO 9796-2 r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he FIDs of related certificate files are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1981080"/>
            <a:ext cx="800100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848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e usage of PKCS#15 require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DF(PKCS15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ODF) for getting the pointer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O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AODF) for getting the PIN informatio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AODF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 (PrKDF) for getting the signature key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rK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CDF) for getting the certificat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C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PuKDF) for getting the root CA PuK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uK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2120" y="1828800"/>
            <a:ext cx="830556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o do this all is not very efficient. Therefor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 the information once from the card a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tore it under a card reference, e.g. the ICC Serial Number ICCSN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keep the information outside the card and store in the card th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card profile identifier pointing to the outsid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pen problem: there is no indication whether the PKCS15 files ar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ocrd-oriented 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rans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962840" cy="66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File Structure of DF.SI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1295280"/>
            <a:ext cx="4800600" cy="5105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352680" y="1447920"/>
          <a:ext cx="3270240" cy="48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447920"/>
                    <a:ext cx="327024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1905120"/>
            <a:ext cx="807732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Is PKCS#15 powerful enough?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6520" y="1981080"/>
            <a:ext cx="7727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ome challe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have a hash function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different signature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a different set of Digital Signature Input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be configurated in such a way that it allow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either after PIN presentation an unlimited number of D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or requires PIN presentation before each 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ETSI PIN management commands instead of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ISO-command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a proprietary command for a certai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ecurit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0" y="1981080"/>
            <a:ext cx="5181480" cy="3733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2666880"/>
            <a:ext cx="3886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76720" y="3048120"/>
            <a:ext cx="3431520" cy="1396800"/>
            <a:chOff x="3276720" y="3048120"/>
            <a:chExt cx="3431520" cy="1396800"/>
          </a:xfrm>
        </p:grpSpPr>
        <p:sp>
          <p:nvSpPr>
            <p:cNvPr id="79" name=""/>
            <p:cNvSpPr/>
            <p:nvPr/>
          </p:nvSpPr>
          <p:spPr>
            <a:xfrm>
              <a:off x="5676840" y="3771720"/>
              <a:ext cx="103140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11520" y="31780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979800" y="3469680"/>
              <a:ext cx="60912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02120" y="354636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68600" y="3386880"/>
              <a:ext cx="41904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03520" y="3326760"/>
              <a:ext cx="84744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85960" y="3048120"/>
              <a:ext cx="81252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05040" y="3914640"/>
              <a:ext cx="81252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76720" y="38862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4200" y="3876480"/>
              <a:ext cx="1031760" cy="55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49680" y="403524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1280" y="4019400"/>
              <a:ext cx="966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64240" y="3940200"/>
              <a:ext cx="7614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523880"/>
            <a:ext cx="7391520" cy="4648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828800"/>
            <a:ext cx="586764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33720" y="2286000"/>
            <a:ext cx="5511600" cy="1517760"/>
            <a:chOff x="2133720" y="2286000"/>
            <a:chExt cx="5511600" cy="1517760"/>
          </a:xfrm>
        </p:grpSpPr>
        <p:sp>
          <p:nvSpPr>
            <p:cNvPr id="96" name=""/>
            <p:cNvSpPr/>
            <p:nvPr/>
          </p:nvSpPr>
          <p:spPr>
            <a:xfrm>
              <a:off x="4343400" y="228600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6248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668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0060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479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3960" y="287028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951360" y="276552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8520" y="2768040"/>
              <a:ext cx="52380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63280" y="2635560"/>
              <a:ext cx="150516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79720" y="267048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60680" y="2444760"/>
              <a:ext cx="108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368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40080" y="34164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0216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40400" y="3407040"/>
              <a:ext cx="90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8640" y="341640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50520" y="4038480"/>
            <a:ext cx="399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F(ODF) - Object Directoty File - point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rKDFs) - Private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uKDFs) - Public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SKDFs) - Secret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CDFs) - Certificate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DODFs) - Data Object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1676520"/>
            <a:ext cx="7467480" cy="4419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ross-References 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1828800"/>
            <a:ext cx="58672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90920" y="2057400"/>
            <a:ext cx="4754160" cy="3611160"/>
            <a:chOff x="2590920" y="2057400"/>
            <a:chExt cx="4754160" cy="3611160"/>
          </a:xfrm>
        </p:grpSpPr>
        <p:sp>
          <p:nvSpPr>
            <p:cNvPr id="118" name=""/>
            <p:cNvSpPr/>
            <p:nvPr/>
          </p:nvSpPr>
          <p:spPr>
            <a:xfrm>
              <a:off x="6065280" y="274284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65280" y="4561560"/>
              <a:ext cx="109692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25200" y="3533400"/>
              <a:ext cx="127980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45040" y="3454560"/>
              <a:ext cx="1279800" cy="368640"/>
            </a:xfrm>
            <a:custGeom>
              <a:avLst/>
              <a:gdLst/>
              <a:ahLst/>
              <a:rect l="l" t="t" r="r" b="b"/>
              <a:pathLst>
                <a:path w="2016" h="672">
                  <a:moveTo>
                    <a:pt x="0" y="0"/>
                  </a:moveTo>
                  <a:cubicBezTo>
                    <a:pt x="480" y="240"/>
                    <a:pt x="960" y="480"/>
                    <a:pt x="1296" y="576"/>
                  </a:cubicBezTo>
                  <a:cubicBezTo>
                    <a:pt x="1632" y="672"/>
                    <a:pt x="1896" y="576"/>
                    <a:pt x="2016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45040" y="3771000"/>
              <a:ext cx="1919880" cy="1186200"/>
            </a:xfrm>
            <a:custGeom>
              <a:avLst/>
              <a:gdLst/>
              <a:ahLst/>
              <a:rect l="l" t="t" r="r" b="b"/>
              <a:pathLst>
                <a:path w="3024" h="2160">
                  <a:moveTo>
                    <a:pt x="0" y="0"/>
                  </a:moveTo>
                  <a:cubicBezTo>
                    <a:pt x="636" y="60"/>
                    <a:pt x="1272" y="120"/>
                    <a:pt x="1584" y="432"/>
                  </a:cubicBezTo>
                  <a:cubicBezTo>
                    <a:pt x="1896" y="744"/>
                    <a:pt x="1632" y="1584"/>
                    <a:pt x="1872" y="1872"/>
                  </a:cubicBezTo>
                  <a:cubicBezTo>
                    <a:pt x="2112" y="2160"/>
                    <a:pt x="2568" y="2160"/>
                    <a:pt x="3024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5040" y="4073760"/>
              <a:ext cx="1005480" cy="1410120"/>
            </a:xfrm>
            <a:custGeom>
              <a:avLst/>
              <a:gdLst/>
              <a:ahLst/>
              <a:rect l="l" t="t" r="r" b="b"/>
              <a:pathLst>
                <a:path w="1584" h="2568">
                  <a:moveTo>
                    <a:pt x="0" y="24"/>
                  </a:moveTo>
                  <a:cubicBezTo>
                    <a:pt x="408" y="12"/>
                    <a:pt x="816" y="0"/>
                    <a:pt x="864" y="312"/>
                  </a:cubicBezTo>
                  <a:cubicBezTo>
                    <a:pt x="912" y="624"/>
                    <a:pt x="264" y="1536"/>
                    <a:pt x="288" y="1896"/>
                  </a:cubicBezTo>
                  <a:cubicBezTo>
                    <a:pt x="312" y="2256"/>
                    <a:pt x="792" y="2376"/>
                    <a:pt x="1008" y="2472"/>
                  </a:cubicBezTo>
                  <a:cubicBezTo>
                    <a:pt x="1224" y="2568"/>
                    <a:pt x="1404" y="2520"/>
                    <a:pt x="1584" y="24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50880" y="5036400"/>
              <a:ext cx="109692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D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1120" y="3365280"/>
              <a:ext cx="273960" cy="1371240"/>
            </a:xfrm>
            <a:custGeom>
              <a:avLst/>
              <a:gdLst/>
              <a:ahLst/>
              <a:rect l="l" t="t" r="r" b="b"/>
              <a:pathLst>
                <a:path w="432" h="2160">
                  <a:moveTo>
                    <a:pt x="0" y="0"/>
                  </a:moveTo>
                  <a:cubicBezTo>
                    <a:pt x="216" y="468"/>
                    <a:pt x="432" y="936"/>
                    <a:pt x="432" y="1296"/>
                  </a:cubicBezTo>
                  <a:cubicBezTo>
                    <a:pt x="432" y="1656"/>
                    <a:pt x="216" y="1908"/>
                    <a:pt x="0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13920" y="3382920"/>
              <a:ext cx="289440" cy="548280"/>
            </a:xfrm>
            <a:custGeom>
              <a:avLst/>
              <a:gdLst/>
              <a:ahLst/>
              <a:rect l="l" t="t" r="r" b="b"/>
              <a:pathLst>
                <a:path w="456" h="864">
                  <a:moveTo>
                    <a:pt x="0" y="0"/>
                  </a:moveTo>
                  <a:cubicBezTo>
                    <a:pt x="204" y="288"/>
                    <a:pt x="408" y="576"/>
                    <a:pt x="432" y="720"/>
                  </a:cubicBezTo>
                  <a:cubicBezTo>
                    <a:pt x="456" y="864"/>
                    <a:pt x="192" y="840"/>
                    <a:pt x="144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64880" y="4268880"/>
              <a:ext cx="914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0920" y="2642400"/>
              <a:ext cx="1554120" cy="16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u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C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A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D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328248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90920" y="355680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0920" y="38401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0920" y="29167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8000" y="210276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u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45040" y="2651400"/>
              <a:ext cx="1096920" cy="198000"/>
            </a:xfrm>
            <a:custGeom>
              <a:avLst/>
              <a:gdLst/>
              <a:ahLst/>
              <a:rect l="l" t="t" r="r" b="b"/>
              <a:pathLst>
                <a:path w="1728" h="312">
                  <a:moveTo>
                    <a:pt x="0" y="144"/>
                  </a:moveTo>
                  <a:cubicBezTo>
                    <a:pt x="504" y="228"/>
                    <a:pt x="1008" y="312"/>
                    <a:pt x="1296" y="288"/>
                  </a:cubicBezTo>
                  <a:cubicBezTo>
                    <a:pt x="1584" y="264"/>
                    <a:pt x="1656" y="132"/>
                    <a:pt x="17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65280" y="2057400"/>
              <a:ext cx="1005480" cy="685440"/>
            </a:xfrm>
            <a:custGeom>
              <a:avLst/>
              <a:gdLst/>
              <a:ahLst/>
              <a:rect l="l" t="t" r="r" b="b"/>
              <a:pathLst>
                <a:path w="1536" h="1080">
                  <a:moveTo>
                    <a:pt x="0" y="216"/>
                  </a:moveTo>
                  <a:cubicBezTo>
                    <a:pt x="312" y="108"/>
                    <a:pt x="624" y="0"/>
                    <a:pt x="864" y="72"/>
                  </a:cubicBezTo>
                  <a:cubicBezTo>
                    <a:pt x="1104" y="144"/>
                    <a:pt x="1344" y="480"/>
                    <a:pt x="1440" y="648"/>
                  </a:cubicBezTo>
                  <a:cubicBezTo>
                    <a:pt x="1536" y="816"/>
                    <a:pt x="1488" y="948"/>
                    <a:pt x="1440" y="10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145040" y="3029400"/>
              <a:ext cx="191988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3760" y="2742840"/>
              <a:ext cx="273960" cy="914040"/>
            </a:xfrm>
            <a:custGeom>
              <a:avLst/>
              <a:gdLst/>
              <a:ahLst/>
              <a:rect l="l" t="t" r="r" b="b"/>
              <a:pathLst>
                <a:path w="432" h="1440">
                  <a:moveTo>
                    <a:pt x="432" y="0"/>
                  </a:moveTo>
                  <a:cubicBezTo>
                    <a:pt x="216" y="168"/>
                    <a:pt x="0" y="336"/>
                    <a:pt x="0" y="576"/>
                  </a:cubicBezTo>
                  <a:cubicBezTo>
                    <a:pt x="0" y="816"/>
                    <a:pt x="216" y="1128"/>
                    <a:pt x="432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981080"/>
            <a:ext cx="6705720" cy="3886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209680"/>
            <a:ext cx="61722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81080" y="2286000"/>
            <a:ext cx="5661000" cy="3098880"/>
            <a:chOff x="1981080" y="2286000"/>
            <a:chExt cx="5661000" cy="3098880"/>
          </a:xfrm>
        </p:grpSpPr>
        <p:sp>
          <p:nvSpPr>
            <p:cNvPr id="142" name=""/>
            <p:cNvSpPr/>
            <p:nvPr/>
          </p:nvSpPr>
          <p:spPr>
            <a:xfrm>
              <a:off x="6610320" y="300996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45000" y="24159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824360" y="2708280"/>
              <a:ext cx="69840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35600" y="278424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01360" y="2625480"/>
              <a:ext cx="438120" cy="5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36280" y="2564640"/>
              <a:ext cx="84780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19440" y="2286000"/>
              <a:ext cx="81288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38520" y="3152520"/>
              <a:ext cx="81288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57680" y="3114720"/>
              <a:ext cx="103212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3160" y="327348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7360" y="3178080"/>
              <a:ext cx="76212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0760" y="31496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0984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440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4832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5280" y="410832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11680" y="3720240"/>
              <a:ext cx="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798720" y="362880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87880" y="3612960"/>
              <a:ext cx="54288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11720" y="3498840"/>
              <a:ext cx="150480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27080" y="353376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4240" y="3308400"/>
              <a:ext cx="104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1104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7440" y="42796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952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87760" y="4270320"/>
              <a:ext cx="90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26000" y="427968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4840" y="4984560"/>
              <a:ext cx="3092400" cy="40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0320" y="5060880"/>
              <a:ext cx="145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52320" y="466704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0240" y="466704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457160" y="467352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25080" y="467352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568840" y="4653720"/>
              <a:ext cx="16488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43600" y="4654440"/>
              <a:ext cx="1713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19320" y="1600200"/>
            <a:ext cx="7467480" cy="4495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057400"/>
            <a:ext cx="678204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76520" y="2362320"/>
            <a:ext cx="6425640" cy="3326760"/>
            <a:chOff x="1676520" y="2362320"/>
            <a:chExt cx="6425640" cy="3326760"/>
          </a:xfrm>
        </p:grpSpPr>
        <p:sp>
          <p:nvSpPr>
            <p:cNvPr id="182" name=""/>
            <p:cNvSpPr/>
            <p:nvPr/>
          </p:nvSpPr>
          <p:spPr>
            <a:xfrm>
              <a:off x="5059800" y="249228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453560" y="2784240"/>
              <a:ext cx="68184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41400" y="2860560"/>
              <a:ext cx="0" cy="36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9240" y="2701800"/>
              <a:ext cx="45288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34960" y="2362320"/>
              <a:ext cx="79380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8840" y="3228840"/>
              <a:ext cx="793440" cy="50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9440" y="3203280"/>
              <a:ext cx="10076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2040" y="3349440"/>
              <a:ext cx="744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05880" y="3362040"/>
              <a:ext cx="7437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34720" y="322560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6020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11760" y="41781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59720" y="41907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76520" y="418464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512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760" y="3796560"/>
              <a:ext cx="0" cy="3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451680" y="3704400"/>
              <a:ext cx="5673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0240" y="3688560"/>
              <a:ext cx="530280" cy="51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31200" y="3574800"/>
              <a:ext cx="146988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502360" y="3609720"/>
              <a:ext cx="137700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384360"/>
              <a:ext cx="101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3240" y="4336920"/>
              <a:ext cx="74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05120" y="4356000"/>
              <a:ext cx="84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97000" y="433692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74040" y="4340160"/>
              <a:ext cx="88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8480" y="4362120"/>
              <a:ext cx="104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8040" y="319392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59960" y="3340080"/>
              <a:ext cx="104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36680" y="2568240"/>
              <a:ext cx="163728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1640" y="484488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25160" y="489564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71920" y="532764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71920" y="538452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44960" y="5657760"/>
              <a:ext cx="38887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74560" y="5505120"/>
              <a:ext cx="28591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28640" y="5359320"/>
              <a:ext cx="17863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0280" y="4749480"/>
              <a:ext cx="0" cy="9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88960" y="4743360"/>
              <a:ext cx="612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82120" y="4736880"/>
              <a:ext cx="0" cy="76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318200" y="4736880"/>
              <a:ext cx="612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223600" y="4736880"/>
              <a:ext cx="61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373360" y="4730400"/>
              <a:ext cx="57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93640" y="5180760"/>
              <a:ext cx="329976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17120" y="5016240"/>
              <a:ext cx="22636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71560" y="4850640"/>
              <a:ext cx="120312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52520" y="3745440"/>
              <a:ext cx="275760" cy="15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53160" y="3727440"/>
              <a:ext cx="499320" cy="11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1752480"/>
            <a:ext cx="7543800" cy="4496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5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2057400"/>
            <a:ext cx="6476760" cy="396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133720" y="2286000"/>
            <a:ext cx="6168960" cy="3463560"/>
            <a:chOff x="2133720" y="2286000"/>
            <a:chExt cx="6168960" cy="3463560"/>
          </a:xfrm>
        </p:grpSpPr>
        <p:sp>
          <p:nvSpPr>
            <p:cNvPr id="233" name=""/>
            <p:cNvSpPr/>
            <p:nvPr/>
          </p:nvSpPr>
          <p:spPr>
            <a:xfrm>
              <a:off x="4165560" y="22860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05240" y="24447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6556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052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60720" y="316224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86280" y="3338640"/>
              <a:ext cx="90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7864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1832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95960" y="3152880"/>
              <a:ext cx="103176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356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6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33720" y="444492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0844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54440" y="444996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799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06840" y="442620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41680" y="4324320"/>
              <a:ext cx="69876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323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35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441972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8500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5648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27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73520" y="28418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645000" y="2745720"/>
              <a:ext cx="63792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63400" y="2745720"/>
              <a:ext cx="70164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7040" y="2555280"/>
              <a:ext cx="187632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292200" y="3717360"/>
              <a:ext cx="2761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502000" y="3613320"/>
              <a:ext cx="66672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054320" y="3622680"/>
              <a:ext cx="13622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797360" y="3708360"/>
              <a:ext cx="87624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578560" y="3699000"/>
              <a:ext cx="33336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49680" y="3641760"/>
              <a:ext cx="4287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12160" y="370836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73240" y="3632400"/>
              <a:ext cx="3999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35200" y="4734000"/>
              <a:ext cx="0" cy="78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39960" y="519444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419200" y="4756320"/>
              <a:ext cx="648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527200" y="5299200"/>
              <a:ext cx="22701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06800" y="4670640"/>
              <a:ext cx="6120" cy="10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305080" y="4737240"/>
              <a:ext cx="648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27200" y="4753080"/>
              <a:ext cx="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4702320"/>
              <a:ext cx="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17680" y="5407200"/>
              <a:ext cx="32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35200" y="5515200"/>
              <a:ext cx="371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19200" y="5635800"/>
              <a:ext cx="468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209680" y="5743440"/>
              <a:ext cx="568656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4012920" y="4743360"/>
              <a:ext cx="12960" cy="45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789800" y="4740480"/>
              <a:ext cx="720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564520" y="4732200"/>
              <a:ext cx="756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6344280" y="4751640"/>
              <a:ext cx="64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7098120" y="4751280"/>
              <a:ext cx="720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7885440" y="4744800"/>
              <a:ext cx="10440" cy="10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99320" y="443232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309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77200" y="442620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13:33:42Z</dcterms:created>
  <dc:creator>Misniker</dc:creator>
  <dc:description/>
  <dc:language>en-US</dc:language>
  <cp:lastModifiedBy>Magnus Nystrom</cp:lastModifiedBy>
  <cp:lastPrinted>1997-11-11T22:03:13Z</cp:lastPrinted>
  <dcterms:modified xsi:type="dcterms:W3CDTF">1999-09-30T14:57:46Z</dcterms:modified>
  <cp:revision>28</cp:revision>
  <dc:subject/>
  <dc:title>I S D N</dc:title>
</cp:coreProperties>
</file>