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DBC3-D051-47CD-BCEC-D08D4B4F7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C5FB-D461-4919-8C4F-D50DA34A5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62B0-DE71-4CB5-9C29-16A8D6B11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68D6-3BEB-472C-9EC1-CB4E01652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5398F-3F16-46F8-802E-98A0D5F66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B90CD-995B-45D7-A25C-793FEDCC8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FCB17-3045-4F18-9151-5A65A72E2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E2292-D4AB-46B5-A119-EDE49D2F8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BB127-FB3F-4411-A618-BE8C45B10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131C4-2A9F-4935-A910-BEE56CF6F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95608-043B-446C-BB41-283FD15A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2FC9-B432-4849-AF7E-B4EBC0EB6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3A430-4F82-4CF5-8670-BA5B5997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3D04A-4BD2-4304-AFEB-C972613A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2AE9C-F47D-4398-B6E7-F097B0F02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00832-524A-43F8-ACD2-E1147B702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A115A-ED68-4435-8B36-203120487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43EB-D005-4210-8BD2-2CA4BABA9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8E5F-0D11-484E-9464-DEDEA8356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ABDE-156A-42FA-AA71-EDE606C90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8BC5-936F-4B95-8312-68104B057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6BFB-B082-4B7B-B6F5-AA1259DF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9899-0852-4650-A98B-695CBCC1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4C78-8E80-4F19-9DFC-86CEBB12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77FEA-93AA-4F20-A218-AC63B7EAD26F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05274-7445-4B77-8DC3-C5AC9D2DD04F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ternate Representations of th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blic Key Cryptography Standard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PKCS) Using S-Expressions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S-PKCS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47720" y="46530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Matthew Wood</a:t>
            </a: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Carl Ellison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Intel Corporation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1999 PKCS Workshop, Stockholm, Sweden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Why Define Data Encodings?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ross-platform data exchang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ersistent storag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nteroperability of independently implemented modul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Drawbacks of ASN.1 and BER/DER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BER often includes several different, but equally valid encodings of the same data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dentity of data structures is assumed based on the context where it is found..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within other data structur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position within a higher level structur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arsing engine is large and complicate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Benefits of S-expressi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ngle encoding for any valu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dentity of all data structures is explici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mall, simple parsing engin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ncoded structures are often shorter than their DER encoded version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xamples: PKCS #1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&lt;digest-info&gt;</a:t>
            </a:r>
            <a:br>
              <a:rPr sz="32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sha1 #F47D…#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&lt;rsa-public-key&gt;</a:t>
            </a:r>
            <a:br>
              <a:rPr sz="32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public-key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rsa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n #…#)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e #010001#)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xamples: PKCS #5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&lt;pbes2-params&gt;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bes2-param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kcs5-pbkdf2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bkdf2-param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pecified #...#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03E8#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hmac-sha1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es-cbc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iv #0123456789ABCDEF#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Questions?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6T11:45:48Z</dcterms:created>
  <dc:creator>Matthew Wood</dc:creator>
  <dc:description/>
  <dc:language>en-US</dc:language>
  <cp:lastModifiedBy>Matthew Wood</cp:lastModifiedBy>
  <dcterms:modified xsi:type="dcterms:W3CDTF">1999-09-26T12:13:52Z</dcterms:modified>
  <cp:revision>7</cp:revision>
  <dc:subject/>
  <dc:title>Alternate Representations of the Public Key Cryptography Standards (PKCS) Using S-Expressions,  S-PKCS</dc:title>
</cp:coreProperties>
</file>