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63E1A7-62CC-41EF-8985-5393942D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oftware Interoper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2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154480"/>
            <a:ext cx="373392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1840" y="510552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73392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0520" y="3641760"/>
            <a:ext cx="428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the Reus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nd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1680" y="3718080"/>
            <a:ext cx="43196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Fair and Unbia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Projec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84640" y="228600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2552760"/>
            <a:ext cx="867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and SAIC are working together on testing methodology at SAIC in 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progress is being made by the technic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team is working with MasterCard and Visa on higher-leve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is working on overall SAIC to TOG trans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/Visa SET Open Vendo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August 2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day Inn Select, Foster City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AM - 1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oduct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Rodrigues</dc:creator>
  <dc:description/>
  <dc:language>en-US</dc:language>
  <cp:lastModifiedBy>Ken Rodrigues</cp:lastModifiedBy>
  <cp:revision>0</cp:revision>
  <dc:subject/>
  <dc:title>No Slide Title</dc:title>
</cp:coreProperties>
</file>