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8899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F5611-1125-4DF9-8DD3-021DCF67C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37853-3E2E-4CE0-A593-C5FA663F9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4C16F-4171-40BF-8EFF-083357886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2F7CF-4C0C-40DA-BB84-1F7080FDF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F0E0A-084F-4AE2-886F-06D8A8D89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6E596-596D-4BB7-A6C9-F6E5B08A1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2A1D9-A3BD-4F4E-9AE2-B919D9B15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6DE0A-A5F7-4CF8-B8A0-EA24DDA03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B0A75-7E4D-4B65-9CE8-9C10D82CB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8088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0CC75-4F14-4BE6-A119-6922573EF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AAF19-7E51-4773-8CEF-BAFF2D62D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DE7C1-9F74-4CD3-838A-D847873EF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66415-D41F-45A1-8415-C2376506D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A75B5-058F-4BF9-BC34-970B80B74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3A679-13DA-469E-9BFE-0D459330D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808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79474-82B5-449A-8FEA-974E06D1A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8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C0A4C-AC24-424D-BCE3-1B2CD98CC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3616D-073C-4DF6-8DD1-5199A2139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99C98-6D95-4702-8867-8615A832E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DA565-0D50-4791-931B-DF40EE0A4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51FD8-6542-4A63-B457-21AE89A69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FC4C4-CF46-4AE2-8F6D-923A196D3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C5F0E-8A31-44ED-9539-F1D4D1EC4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949BE-F0E2-4492-9E85-3FA587BD5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371600"/>
            <a:ext cx="8026560" cy="0"/>
          </a:xfrm>
          <a:prstGeom prst="line">
            <a:avLst/>
          </a:prstGeom>
          <a:ln w="50760">
            <a:solidFill>
              <a:srgbClr val="1515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1515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808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445FF-2DDF-423D-B280-A0B072F31C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3429000"/>
            <a:ext cx="8026560" cy="0"/>
          </a:xfrm>
          <a:prstGeom prst="line">
            <a:avLst/>
          </a:prstGeom>
          <a:ln w="50760">
            <a:solidFill>
              <a:srgbClr val="1515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0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27FDF-D914-4A95-9196-3757DF46E4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1515ea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3520" y="1676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C6—The elegant AES choi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837720" y="3886200"/>
            <a:ext cx="7543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on Rivest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ivest@mit.edu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tt Robshaw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robshaw@supanet.co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Yiqun Lisa Yin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iqun@nttmcl.co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erformance on 64-bit CPU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enerally good 64-bit performanc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A64-performance only fair but anomalous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--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lower than Pentium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ote 3x improvement with IA64++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uture chips will optimize A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 addition, RC6 gains dramatically with multi-block processing compared to other schem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830592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jor Trends: Java and DSP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creasing use of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Jav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or e-commerce and embedded app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C6 provides excellent speed with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minima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code size and memory usag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creasing use of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DSP chip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ikely to be more significant than IA64 or 8-bit processor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C6 gives excellent performanc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lexi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C6 is fully parameterize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key size, number of rounds, and block length can be readily changed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ell-suited for hash function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C6 is only AES finalist that naturally gives DES and triple-DES compatible variants (64-bit blocks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52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do we grade candidates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7000"/>
          </a:bodyPr>
          <a:p>
            <a:pPr marL="263880" indent="-263880">
              <a:lnSpc>
                <a:spcPct val="90000"/>
              </a:lnSpc>
              <a:spcBef>
                <a:spcPts val="700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urity (corroborated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63880" indent="-263880">
              <a:lnSpc>
                <a:spcPct val="90000"/>
              </a:lnSpc>
              <a:spcBef>
                <a:spcPts val="700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erformance (speed+memory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572040" indent="-219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2-bi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(30%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572040" indent="-219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Java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(20%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572040" indent="-219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SP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(15%)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572040" indent="-219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64-bi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(15%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572040" indent="-219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ardwar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(15%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572040" indent="-219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8-bi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(5%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63880" indent="-263880">
              <a:lnSpc>
                <a:spcPct val="90000"/>
              </a:lnSpc>
              <a:spcBef>
                <a:spcPts val="700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ase of implementation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63880" indent="-263880">
              <a:lnSpc>
                <a:spcPct val="90000"/>
              </a:lnSpc>
              <a:spcBef>
                <a:spcPts val="700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mplicity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63880" indent="-263880">
              <a:lnSpc>
                <a:spcPct val="90000"/>
              </a:lnSpc>
              <a:spcBef>
                <a:spcPts val="700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lexibility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63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verall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40/25/15/10/10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"/>
          <p:cNvSpPr/>
          <p:nvPr/>
        </p:nvSpPr>
        <p:spPr>
          <a:xfrm>
            <a:off x="5867280" y="2438280"/>
            <a:ext cx="685800" cy="2362320"/>
          </a:xfrm>
          <a:custGeom>
            <a:avLst/>
            <a:gdLst>
              <a:gd name="textAreaLeft" fmla="*/ 0 w 685800"/>
              <a:gd name="textAreaRight" fmla="*/ 247680 w 685800"/>
              <a:gd name="textAreaTop" fmla="*/ 61560 h 2362320"/>
              <a:gd name="textAreaBottom" fmla="*/ 2300760 h 2362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924680" y="4876920"/>
            <a:ext cx="609840" cy="304560"/>
          </a:xfrm>
          <a:prstGeom prst="rect">
            <a:avLst/>
          </a:prstGeom>
          <a:solidFill>
            <a:srgbClr val="41f1e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924680" y="5334120"/>
            <a:ext cx="609840" cy="304560"/>
          </a:xfrm>
          <a:prstGeom prst="rect">
            <a:avLst/>
          </a:prstGeom>
          <a:solidFill>
            <a:srgbClr val="41f1e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924680" y="5791320"/>
            <a:ext cx="609840" cy="304560"/>
          </a:xfrm>
          <a:prstGeom prst="rect">
            <a:avLst/>
          </a:prstGeom>
          <a:solidFill>
            <a:srgbClr val="41f1e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6248520"/>
            <a:ext cx="609840" cy="304560"/>
          </a:xfrm>
          <a:prstGeom prst="rect">
            <a:avLst/>
          </a:prstGeom>
          <a:solidFill>
            <a:srgbClr val="41f1e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924680" y="3276720"/>
            <a:ext cx="609840" cy="304560"/>
          </a:xfrm>
          <a:prstGeom prst="rect">
            <a:avLst/>
          </a:prstGeom>
          <a:solidFill>
            <a:srgbClr val="41f1e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4419720"/>
            <a:ext cx="609480" cy="304560"/>
          </a:xfrm>
          <a:prstGeom prst="rect">
            <a:avLst/>
          </a:prstGeom>
          <a:solidFill>
            <a:srgbClr val="41f1e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191120" y="4038480"/>
            <a:ext cx="609480" cy="304920"/>
          </a:xfrm>
          <a:prstGeom prst="rect">
            <a:avLst/>
          </a:prstGeom>
          <a:solidFill>
            <a:srgbClr val="41f1e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191120" y="3657600"/>
            <a:ext cx="609480" cy="304920"/>
          </a:xfrm>
          <a:prstGeom prst="rect">
            <a:avLst/>
          </a:prstGeom>
          <a:solidFill>
            <a:srgbClr val="41f1e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191120" y="3276720"/>
            <a:ext cx="609480" cy="304560"/>
          </a:xfrm>
          <a:prstGeom prst="rect">
            <a:avLst/>
          </a:prstGeom>
          <a:solidFill>
            <a:srgbClr val="41f1e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191120" y="2819520"/>
            <a:ext cx="609480" cy="304560"/>
          </a:xfrm>
          <a:prstGeom prst="rect">
            <a:avLst/>
          </a:prstGeom>
          <a:solidFill>
            <a:srgbClr val="41f1e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191120" y="2438280"/>
            <a:ext cx="609480" cy="304920"/>
          </a:xfrm>
          <a:prstGeom prst="rect">
            <a:avLst/>
          </a:prstGeom>
          <a:solidFill>
            <a:srgbClr val="41f1e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924680" y="1523880"/>
            <a:ext cx="609840" cy="304920"/>
          </a:xfrm>
          <a:prstGeom prst="rect">
            <a:avLst/>
          </a:prstGeom>
          <a:solidFill>
            <a:srgbClr val="41f1e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clus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C6 is a simple yet remarkably strong ciph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ood performance on most important platform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mple to code for good performance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cellent flexibilit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most studied finalis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best understood finalis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C6 is the secure and “elegant” choice for the A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808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(The End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C6 is the right AES choi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urit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ase of implementa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lexibilit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82296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C6 is simple: only 12 lin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 = B + S[ 0 ]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 = D + S[ 1 ]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or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i  =  1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o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20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do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{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t  =  ( B  x  ( 2B  + 1 ) )  &lt;&lt;&lt;  5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u  =  ( D  x  ( 2D + 1 ) )  &lt;&lt;&lt;  5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A  =  ( ( A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 )  &lt;&lt;&lt;  u )  +  S[ 2i ]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C  =  ( ( C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u )  &lt;&lt;&lt;  t )  +  S[ 2i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+ 1 ]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(A, B, C, D)  =  (B, C, D, A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}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= A + S[ 42 ]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 =  C + S[ 43 ]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implicity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120" y="175248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acilitates and encourages analysi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llows rapid understanding of securit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kes direct analysis straightforward (contrast with Mars and Twofish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nables easy implementa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llows compilers to produce high-quality cod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bviates complicated optimization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ovides good performance with minimal effor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C6 security is well-analyz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C6 is probably most studied AES finalis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C6 is based on RC5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C6 analysis builds directly on RC5 analysi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riginal RC6 analysis is very detaile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C6 simplified variants studied extensivel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mall-scale versions allowed experimenta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10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C6 key schedule is rock-soli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818532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tudied for more than six year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ur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orough mixing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ne-way function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o key separation (cf. Twofish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o related-key attacks (cf. Rijndael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53452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riginal analysis still accurat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80010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C6 meets original design criteri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urity estimates from 1998 still good today; independent analyses supportiv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ure, even in theory, even with analysis improvements far beyond those seen for DES during its lifetim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C6 provides a solid, well-tuned margin for security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32-bit Performa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xcellent performanc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32-bit CPUs ar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IST reference platform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significant fraction of installed computers throughout the AES lifetim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ecoming more prevalent in cheaper devices (e.g. ARM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mart Card Suit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RC6 fits in the cheapest smart cards, and well-suited for many (e.g. ARM processor)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Bandwidth, not CPU, likely to be most significant bottleneck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8-bit CPUs will become far less important over the AES lifetim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5-28T16:26:58Z</dcterms:created>
  <dc:creator>Ronald L. Rivest</dc:creator>
  <dc:description/>
  <dc:language>en-US</dc:language>
  <cp:lastModifiedBy>Ron Rivest</cp:lastModifiedBy>
  <cp:lastPrinted>1998-04-19T17:05:34Z</cp:lastPrinted>
  <dcterms:modified xsi:type="dcterms:W3CDTF">2000-04-14T04:01:03Z</dcterms:modified>
  <cp:revision>113</cp:revision>
  <dc:subject/>
  <dc:title>RSA: 1977--1997 and beyond</dc:title>
</cp:coreProperties>
</file>