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62315"/>
        <c:axId val="71814664"/>
      </c:barChart>
      <c:catAx>
        <c:axId val="29462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14664"/>
        <c:crosses val="autoZero"/>
        <c:auto val="1"/>
        <c:lblAlgn val="ctr"/>
        <c:lblOffset val="100"/>
        <c:noMultiLvlLbl val="0"/>
      </c:catAx>
      <c:valAx>
        <c:axId val="71814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62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167-2303-4EA9-B900-14EBF421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265-2AF9-49F1-AB74-1923EB94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E79-31F0-4472-8997-8DCBC290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B3C-151C-4A06-BCAE-20EB1DCD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045-4FD1-4838-BE5A-CF09874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30B-D223-4C6E-8759-09084F65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BB7-E4DF-442E-9F4A-82D65C91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ADE-EDE4-4A0C-96A3-FC7B09A1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9FF-54D8-453E-8CD1-5116B06B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DD8-3571-4A3D-8BEF-263EC85E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305-6FB6-4DBC-BF55-2653685D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B43-66E2-460D-81C6-ED0D12C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618BE-38E9-4BE4-BA06-606E0D4ACD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