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13207"/>
        <c:axId val="60695586"/>
      </c:barChart>
      <c:catAx>
        <c:axId val="20513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5586"/>
        <c:crosses val="autoZero"/>
        <c:auto val="1"/>
        <c:lblAlgn val="ctr"/>
        <c:lblOffset val="100"/>
        <c:noMultiLvlLbl val="0"/>
      </c:catAx>
      <c:valAx>
        <c:axId val="60695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13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0F1-F400-4B8B-B8A9-B2DF5B75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BCF-CA71-4867-8205-11DF645F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1D1-6852-418B-99EE-8C3DEC33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372-CF4C-4CE8-8878-B69BFC45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A63-AE86-498B-8B2F-9129ACD3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C9C-B43B-4BE6-A945-927CA41B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791-5416-4271-83E3-6958261D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40E-7822-4026-8760-250D6F06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80B-8B15-4A37-9621-F6C72763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089-6DA5-4CF9-B09D-E65FDA4E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555-B6C8-46CE-AA81-41EC629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BA2-6940-4505-A2CF-A0B89150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04BB5-8A8A-42C6-9D10-D1E29FB1A6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