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58514"/>
        <c:axId val="67954909"/>
      </c:barChart>
      <c:catAx>
        <c:axId val="16158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54909"/>
        <c:crosses val="autoZero"/>
        <c:auto val="1"/>
        <c:lblAlgn val="ctr"/>
        <c:lblOffset val="100"/>
        <c:noMultiLvlLbl val="0"/>
      </c:catAx>
      <c:valAx>
        <c:axId val="67954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58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F71-614F-4DB0-AD31-F1E9F3B0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31B-580D-4278-8EED-3D7F8960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A15-8940-4E7E-B9E4-44151B00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72C-102B-4EE5-A513-16582CF5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641-9800-45B3-A2EB-B5E76B41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7AF-1695-4405-B428-9558D460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B20-ACB1-4A64-9EE6-8F0A5FF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55B-8056-4900-AE72-E015C1C1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79E-8189-433F-ADEB-FA03620E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A3D-785B-4F9E-88E1-6E0A0718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4EB-3019-4C0E-AA24-CEAF6D83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498-3BF7-48DC-B389-361BD33A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4B868-7D3F-4920-B363-869883C995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